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CFAA5-74B7-4152-BC63-259C85913B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0AD15-5AC7-44A7-8128-5DD6EAEC2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86A0-5A03-40C7-9930-D949D5536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FFED-C69F-466B-A72E-9AFD18906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039D-2197-4F89-8497-5D7BD853D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757C-3266-4B58-B496-838391CAC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A4286-F33A-4A39-B8F7-72C35DE03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C45BB-1373-4FF3-9A20-4E9878B1C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B0C44-5D62-48CE-851D-912E5CD06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E9B8D-6369-4E46-898F-6B63E68E3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8CD1F-B0B4-4CDF-8CB3-BD6884834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2862F-DB97-4259-B5CB-A1374811F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075A6-6EE1-40CF-B604-54E81E70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04A0-BEC6-4594-A2FB-AA4B6A55E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02229-4CDA-409F-9031-7EF8C159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A9278-34EA-468E-B6BD-5C62F4EC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DF219-3D52-4E55-BDD6-27A314EF4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2B63D-7CDF-4588-8791-A1B1D44AA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7935A-4EFC-4F69-8C69-5C0BA0FBC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1C460-3E1C-4A30-A156-C6116E233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ECA7C-86C0-47AE-A7A8-F45F50DB9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4A16E-21B4-46E4-82F9-A6C10C2FB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20CBD-4185-46BC-9D2F-D3A54B063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AF25D-62C1-41C5-8E2E-934CA7E08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6447-8BED-4924-8A03-2EA0CB23E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5FD2D-4987-4CA3-8611-C8E208EE4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FA128-D70A-49D7-B2FD-5B70FE89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CA929-AD68-49E5-93D9-E7BC6076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26D84-6764-4D9D-89DC-463808F1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EABCB-CA74-4E11-9184-E5B30F4E2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73AED-5B53-4ECB-8B98-D6A7617FF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139DB-3B5D-4EEB-B61D-EEA87882F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6B315-8932-43DD-B155-0AFD5B37B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FB302-56AE-41B5-8D7E-ECBEB9014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CFE9A-3D6C-4D2F-BB28-E99B4D62C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BC27-F82B-4D6A-B4EB-514C518A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5D690-F341-4E8F-B2D5-6E79F41C4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08A4C-CAC3-4B20-8498-B397F1B34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CBAEE-2DAC-4BF5-BC24-2CDFFCDF2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D284C-701C-439B-B5B7-D9BE249D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9F5B0-CF2F-42E9-B0A2-DB611987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0BB31-57F4-43DD-B963-89883A9A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49DEE-42E5-4682-A13B-E6793C2F5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B6140-DDCC-4A27-9265-4D5C7A4B3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5EE1A-2B83-47DC-BD1F-1380D836D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72E0-CF0D-4FF8-8F4F-625021AB5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D508-4896-4CDF-9F12-D289A188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F2A7-AB4C-4C5E-B107-4FA9AEB5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96C8-844D-4849-B7CF-BE118E61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CCB2-F3C9-4608-BF1B-80BB27C4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D19EE-7B3E-4D5D-B937-89F50D4A995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95A7-1136-4BF2-B57B-DB17EC3E26B4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BDAD3-268B-4AB7-89AD-1BA08A0ACFF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BB5BB-909C-46C0-97A4-FE47FFCF672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P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7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7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8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8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8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7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8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6 countries responded, from a possible approximately 85, a response rate of 42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, down on 2016, was similar to previous years and has been about this rate for the 30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7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6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675,73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418,443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51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eigh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7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30,897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7,813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51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0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20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6 Intermediate (12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5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5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4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5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36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/Reserve Entanglemen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, low cutaway, reserve opening on impac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Drowning or cutaway over water, possibly rendering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jumper unconsciou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Rotating Main Canopy, no ac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utaway, reserve incorrectly assembl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Reserve P/C entangled with another’s c/a main, reserve did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not deplo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5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500" spc="-1" strike="noStrike" u="sng">
                <a:solidFill>
                  <a:srgbClr val="000000"/>
                </a:solidFill>
                <a:uFillTx/>
                <a:latin typeface="Arial Unicode MS"/>
              </a:rPr>
              <a:t>Total  42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 - 16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 - 16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– 12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4 – 08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4 (27% of total fatalities, 51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51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30 (59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6 (31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5 (10%) might have been avoided by an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0 (78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Of the 2017 fatalities 6 were First Jump Students,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2 Solo Students and 4 Tandem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4 (27% of 51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160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8.8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419,149 Solo jumps – 1,256,584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8; Solo Fatalities 43 (51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9-01-23T10:01:21Z</dcterms:modified>
  <cp:revision>123</cp:revision>
  <dc:subject/>
  <dc:title>SAFETY &amp; TRAINING FORUM 25 January 2003</dc:title>
</cp:coreProperties>
</file>