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5E473-B28A-42A5-99D6-861FB756DB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08B68-5690-4CA5-93C9-4EE7CE7D3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6E1B0-9564-4ECD-96EF-B03C7DD21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47086-C2EC-441D-8288-CC7B243B4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0BF5B-05F5-4459-887E-32B90C1DD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A60EF-AE02-4DFF-A64F-6CD0CFD04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8CBD4-9A2E-4A76-B3F0-9DBFF4631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93D01-70E2-4F4D-874E-8772243C9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DFBC6-0165-44DA-9DDF-C28BFA1EB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85022-3BC0-4D30-9EF8-903389CDA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3643B-5022-4AB6-86A5-DF47D993F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6E285-5321-428E-8E29-C5B2BB4F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BBE7E-FB7B-4181-95E4-5968A4CC5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BDCF7-9136-458F-A251-33E61B12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A27F5-6974-4DDB-B89A-A03301BE4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B5AD3-EDB1-4511-85F3-39F031A1F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72E86-B41F-4CF9-ADDB-28E9597E9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F6B07-009F-4D8C-91EF-769FB0F36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38CC0-711F-4963-9B10-1EAEE40F5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B3006-747F-4D60-B5F8-288E423F4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93768-8AF0-4068-ABBD-27764A2F4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B7543-29BF-4047-93EC-0C1FFF626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0952D-1D3A-43A9-A6F7-0C2E064D4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FFE5A-BB17-4D12-97CF-F3924C05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6049B-3BF7-4BA9-9C7C-C7F6440EC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0D5E5-8244-488C-8AF8-AC11691C068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7984F-75EA-4EC0-B7B6-D444B07E4DB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TECHNICAL &amp; SAFETY COMMITTEE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99640" y="4941720"/>
            <a:ext cx="75596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ternational Parachuting Commissio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340000" y="1916280"/>
            <a:ext cx="4824360" cy="28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IE" sz="3200" spc="-1" strike="noStrike">
                <a:solidFill>
                  <a:srgbClr val="e5e5ff"/>
                </a:solidFill>
                <a:latin typeface="Garamond"/>
              </a:rPr>
              <a:t>                    </a:t>
            </a: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2004 Safety Repor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755964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39 countries supplied da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5,332,756 skydives were made b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493,250 jump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53 people were killed skydiv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100,618 jumps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9,307 jump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e5e5ff"/>
                </a:solidFill>
                <a:latin typeface="Arial"/>
              </a:rPr>
              <a:t>              </a:t>
            </a:r>
            <a:r>
              <a:rPr b="1" lang="en-IE" sz="4800" spc="-1" strike="noStrike">
                <a:solidFill>
                  <a:srgbClr val="e5e5ff"/>
                </a:solidFill>
                <a:latin typeface="Arial"/>
              </a:rPr>
              <a:t>53 Fataliti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988640"/>
            <a:ext cx="8218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8 Studen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15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1 Intermed.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21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4 Exper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64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Cutaway &amp; Low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47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971640" y="333360"/>
            <a:ext cx="1692360" cy="10396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                ‘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Other’ Fatalities (47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8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9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7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Suicid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ain/Reserve entanglemen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during CF opening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ow cutaway &amp; Line twists on reserv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anopy collision during CF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Jumper unconscious before AAD fir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Hard landing under two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Jumper caught cutaway canopy which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ntangled with jumper’s own mai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Total 47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"/>
          <p:cNvSpPr/>
          <p:nvPr/>
        </p:nvSpPr>
        <p:spPr>
          <a:xfrm>
            <a:off x="971640" y="549360"/>
            <a:ext cx="17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               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Fatalities – Largest Group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79311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2% (17) Landing Erro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7% ( 9) Fast canop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3%  (7) Equipment proble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"/>
          <p:cNvSpPr/>
          <p:nvPr/>
        </p:nvSpPr>
        <p:spPr>
          <a:xfrm>
            <a:off x="808200" y="10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IE" sz="2800" spc="-1" strike="noStrike">
                <a:solidFill>
                  <a:srgbClr val="e5e5ff"/>
                </a:solidFill>
                <a:latin typeface="Garamond"/>
              </a:rPr>
              <a:t>                    </a:t>
            </a:r>
            <a:r>
              <a:rPr b="1" i="1" lang="en-IE" sz="4000" spc="-1" strike="noStrike">
                <a:solidFill>
                  <a:srgbClr val="e5e5ff"/>
                </a:solidFill>
                <a:latin typeface="Arial"/>
              </a:rPr>
              <a:t>Some Significant Figur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00244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66% of the 53 fatalities (18 were discounted for this statistic) occurred with the parachutist having at least one good parachute on his/her bac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1% - 27 of 53 fatalities, occurred after the successful deployment of the main parachut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1% - 6 of the 53 fatalities might have been avoided by AAD us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79% - 42 of the 53 fatalities, appear to have been caused by human erro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3 of the 53 Fatalities were First Jump Studen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                  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Some Continuing Trend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7920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High numbers of fatalities resulting from landing and handling canop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creased use of AAD shows in low figure for number of jumpers who might have been saved by the use of an AA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Round Main Canopies being used les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Emphasis on good and thorough initial and ongoing training is probably the only way in which the big numbers of fatalities, especially from canopy handling/landing, may be reduce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57200" y="191628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is report, along with 2004 AAD Report, and Power Point presentations for both reports, has been sent by e-mail to all respondents and to all other countries for which we have e-mail addresses (72 in total)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e CDs have the following –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AAD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Visiting Jumper Requirements Survey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Chart 2006 – with details of AADs on the market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Reserve Life Survey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tudent Canopy Loading Guid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5 For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5 Not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5 For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165564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6-01-16T20:58:31Z</dcterms:modified>
  <cp:revision>33</cp:revision>
  <dc:subject/>
  <dc:title>SAFETY &amp; TRAINING FORUM 25 January 2003</dc:title>
</cp:coreProperties>
</file>