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1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Impact"/>
              </a:rPr>
              <a:t>THE AUDIENCE OF</a:t>
            </a:r>
            <a:br>
              <a:rPr sz="8000"/>
            </a:br>
            <a:r>
              <a:rPr b="0" lang="en-US" sz="8000" spc="-1" strike="noStrike">
                <a:solidFill>
                  <a:srgbClr val="3333cc"/>
                </a:solidFill>
                <a:latin typeface="Impact"/>
              </a:rPr>
              <a:t>AIR SPOR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FAI-logo2" descr=""/>
          <p:cNvPicPr/>
          <p:nvPr/>
        </p:nvPicPr>
        <p:blipFill>
          <a:blip r:embed="rId1"/>
          <a:stretch/>
        </p:blipFill>
        <p:spPr>
          <a:xfrm>
            <a:off x="7010280" y="48769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Eurosport actual viewers adults 14-39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ct to Dec 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33400" y="2438280"/>
          <a:ext cx="801072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2438280"/>
                    <a:ext cx="801072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76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air shows spectators’ profile</a:t>
            </a:r>
            <a:br>
              <a:rPr sz="3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ll statistics are given 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489640" y="4888080"/>
          <a:ext cx="22478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9640" y="4888080"/>
                    <a:ext cx="22478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3886200"/>
          <a:ext cx="45720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4572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410080" y="3733920"/>
          <a:ext cx="3124440" cy="2719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733920"/>
                    <a:ext cx="31244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390920" y="968400"/>
          <a:ext cx="4934160" cy="24606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0920" y="968400"/>
                    <a:ext cx="493416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" y="939960"/>
          <a:ext cx="4343400" cy="2336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939960"/>
                    <a:ext cx="434340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886200" y="2895480"/>
          <a:ext cx="52578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95480"/>
                    <a:ext cx="5257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304920"/>
          <a:ext cx="4819680" cy="35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4819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umulated Audience by Cou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000160"/>
          <a:ext cx="771516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151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38080" y="3352680"/>
          <a:ext cx="739152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391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066680" y="0"/>
          <a:ext cx="7086600" cy="3533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0"/>
                    <a:ext cx="708660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3505320"/>
            <a:ext cx="3200400" cy="2065320"/>
            <a:chOff x="0" y="3505320"/>
            <a:chExt cx="3200400" cy="2065320"/>
          </a:xfrm>
        </p:grpSpPr>
        <p:graphicFrame>
          <p:nvGraphicFramePr>
            <p:cNvPr id="68" name=""/>
            <p:cNvGraphicFramePr/>
            <p:nvPr/>
          </p:nvGraphicFramePr>
          <p:xfrm>
            <a:off x="76320" y="3930480"/>
            <a:ext cx="2895480" cy="164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930480"/>
                      <a:ext cx="2895480" cy="164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0" y="35053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Handgli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172200" y="1066680"/>
            <a:ext cx="2971440" cy="2057400"/>
            <a:chOff x="6172200" y="1066680"/>
            <a:chExt cx="2971440" cy="2057400"/>
          </a:xfrm>
        </p:grpSpPr>
        <p:graphicFrame>
          <p:nvGraphicFramePr>
            <p:cNvPr id="72" name=""/>
            <p:cNvGraphicFramePr/>
            <p:nvPr/>
          </p:nvGraphicFramePr>
          <p:xfrm>
            <a:off x="6194880" y="1496880"/>
            <a:ext cx="2948760" cy="16272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4880" y="1496880"/>
                      <a:ext cx="294876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6172200" y="10666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Gli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00400" y="3505320"/>
            <a:ext cx="2971800" cy="2057400"/>
            <a:chOff x="3200400" y="3505320"/>
            <a:chExt cx="2971800" cy="2057400"/>
          </a:xfrm>
        </p:grpSpPr>
        <p:graphicFrame>
          <p:nvGraphicFramePr>
            <p:cNvPr id="76" name=""/>
            <p:cNvGraphicFramePr/>
            <p:nvPr/>
          </p:nvGraphicFramePr>
          <p:xfrm>
            <a:off x="3200400" y="3922560"/>
            <a:ext cx="2895480" cy="16401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922560"/>
                      <a:ext cx="2895480" cy="164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276720" y="35053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aragli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48120" y="990720"/>
            <a:ext cx="3047400" cy="2133000"/>
            <a:chOff x="3048120" y="990720"/>
            <a:chExt cx="3047400" cy="2133000"/>
          </a:xfrm>
        </p:grpSpPr>
        <p:graphicFrame>
          <p:nvGraphicFramePr>
            <p:cNvPr id="80" name=""/>
            <p:cNvGraphicFramePr/>
            <p:nvPr/>
          </p:nvGraphicFramePr>
          <p:xfrm>
            <a:off x="3126240" y="1497960"/>
            <a:ext cx="2969280" cy="16257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6240" y="1497960"/>
                      <a:ext cx="2969280" cy="162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3048120" y="990720"/>
              <a:ext cx="30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Balloo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324480" y="3505320"/>
            <a:ext cx="2819520" cy="2022480"/>
            <a:chOff x="6324480" y="3505320"/>
            <a:chExt cx="2819520" cy="2022480"/>
          </a:xfrm>
        </p:grpSpPr>
        <p:graphicFrame>
          <p:nvGraphicFramePr>
            <p:cNvPr id="84" name=""/>
            <p:cNvGraphicFramePr/>
            <p:nvPr/>
          </p:nvGraphicFramePr>
          <p:xfrm>
            <a:off x="6324480" y="3930840"/>
            <a:ext cx="2819520" cy="159696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930840"/>
                      <a:ext cx="2819520" cy="15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6400800" y="35053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kydi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0" y="1066680"/>
            <a:ext cx="2895120" cy="2057040"/>
            <a:chOff x="0" y="1066680"/>
            <a:chExt cx="2895120" cy="2057040"/>
          </a:xfrm>
        </p:grpSpPr>
        <p:graphicFrame>
          <p:nvGraphicFramePr>
            <p:cNvPr id="88" name=""/>
            <p:cNvGraphicFramePr/>
            <p:nvPr/>
          </p:nvGraphicFramePr>
          <p:xfrm>
            <a:off x="0" y="1502280"/>
            <a:ext cx="2895120" cy="16214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0" y="1502280"/>
                      <a:ext cx="2895120" cy="162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160560" y="1066680"/>
              <a:ext cx="273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eroba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udience % and Affinity Index on Eurosport</a:t>
            </a:r>
            <a:br>
              <a:rPr sz="3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argets: 14-29 and 14-39 years 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73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ow to read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 the average of viewers for the Network 7 is 28,7 whereas for the Aerobatics it ’s 33%, wich is 15% better than the average ( 115 on a base of 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N.B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 Network 7 represents 64% of Eurosport ’s total ( Germany, UK, Netherlands, Belgium, Danemark, Sweden, Po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3200"/>
            <a:ext cx="2895480" cy="152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3:57:45Z</dcterms:created>
  <dc:creator>LAMY</dc:creator>
  <dc:description/>
  <dc:language>en-US</dc:language>
  <cp:lastModifiedBy>Alex Nagorski</cp:lastModifiedBy>
  <cp:lastPrinted>2000-02-01T13:44:44Z</cp:lastPrinted>
  <dcterms:modified xsi:type="dcterms:W3CDTF">2000-02-14T04:24:38Z</dcterms:modified>
  <cp:revision>20</cp:revision>
  <dc:subject/>
  <dc:title>Eurosport « Network 7 » actual viewers - adults 14-39</dc:title>
</cp:coreProperties>
</file>