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C97C-76DC-442A-8555-CFE4F913D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F203-D224-4E43-81D8-CFB9BFDA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9048-6198-4DAC-BAF9-74921D70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CDF7-C482-45F2-A066-976B32C7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1BE0-B480-422D-A191-C6E1F1C1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B9D5-4483-42FF-9BA6-3B4CEC7B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FC02-470F-4F09-81E7-5A517E7E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F430-2E2C-4B02-B0D0-7371E253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3247-9F59-466A-9642-C26BA0BC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C1D7-0EDC-4A0F-97C3-73352723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4AAB-B634-49D0-9B74-6FFE2E17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33FF-555B-4ACE-BBDE-6684BE58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1068-955F-4814-AE2B-0F0030B571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UX2000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295280" cy="12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849240"/>
            <a:ext cx="685800" cy="32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UX2000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August 3rd - August 13th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stimated resul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Airship World Championship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50.000 visi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7 TV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World Championship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- 25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6 med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16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8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based on previous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Fiesta fly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ry fee: 500 E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cludes all propane from August 4th to August 13th, 2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 x1:50.000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4 tickets for attending the Welcome Reception so as the Awards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conditions for Special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re-registration: Please send the attached pre-registration document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e Aérostatique du Grand-Duché de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BP 2, 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number of Fiesta balloons is limited to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s soon as your pre-registration is accepted, we will send you the final registration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Luxembourg Balloon Jambore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670040"/>
            <a:ext cx="5562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FFICIAL PILOT ENTRY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amily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irst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tionality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ddress for correspond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l/Fax number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Pilot in Charge, Hot Air Balloons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 of Pilots Lic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ilots Licence Number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ity: 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ssued b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BALLOON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egistration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ak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ze: 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Year of Manufacture: 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flown: 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Registration number: 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Airworthiness number: 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mpan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ird party limit: 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(advertising, colours, etc): 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 CV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of experience and achievements in ballooning (Please add a colour pi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yourself and your ballo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organizer’s refere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2, Hot Air Balloon European Championship in Ettelb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8, Hot Air Airship World Championship in Walferdange, Mer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1, Hot Air Airship European Championship in Mon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3, Hot Air Balloon World Championship in Meys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Organizer: Commune Aérostatique du Grand-Duché de Luxembourg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O Bo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Grand-Duchy of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hone: (+352) 78 90 75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x: (+352) 78 90 75-46 and 78 99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mail: contact@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: www.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vent in the year 200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ugust 3rd - August 13th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 Meysembourg, Larochette / Mersch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more than 120 ball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81 of the best european pilots comp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shapes an a Fiesta 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flights per day, mornings and ev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ight-seeing programm for pilots and cr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weekends of total entertai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lights and night g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arachutists, deltaplanes, kites etc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bars, restau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concerts, fireworks,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pa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ALLON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3600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Meysembourg vill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sit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Site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commun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RTL Radio an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ocal Newspaper and Magazine partn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uxemburger Wort, Telecran and Re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international TV coverage by Euro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I TV distributio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00 international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binsfeld-commun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ication 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Exce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 Pres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ALLON3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733920" cy="251604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Air sports on the air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2000’s TV produ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hang-gliding championship for women, June 00, Boeotia,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aerobatics championship, August 00, Muret-Toulouse,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t air balloon European championship, August 00, Luxem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world of aeromodelling, highlights on various champ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th World parachuting championship in style and accuracy, October 00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552600"/>
            <a:ext cx="121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1999’s TV distribu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ual programms sales (Nov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sia &amp; Middle East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orth Americ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flight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44792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99072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180036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90920" y="3657600"/>
            <a:ext cx="190476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5040" y="2424240"/>
            <a:ext cx="23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2590920"/>
            <a:ext cx="1611360" cy="3897360"/>
            <a:chOff x="7086600" y="2590920"/>
            <a:chExt cx="1611360" cy="389736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410080" y="2819520"/>
            <a:ext cx="1371600" cy="65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5486400" y="3809880"/>
            <a:ext cx="129528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41960" y="2424240"/>
            <a:ext cx="1808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200" spc="-1" strike="noStrike">
                <a:solidFill>
                  <a:srgbClr val="3333cc"/>
                </a:solidFill>
                <a:latin typeface="Arial"/>
              </a:rPr>
              <a:t>The Internet balloon.lu homep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1905120"/>
          <a:ext cx="68389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838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62240" y="1501920"/>
          <a:ext cx="60973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1501920"/>
                    <a:ext cx="6097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838080" y="1828800"/>
            <a:ext cx="59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1:33:26Z</dcterms:created>
  <dc:creator>Binsfeld Conseil</dc:creator>
  <dc:description/>
  <dc:language>en-US</dc:language>
  <cp:lastModifiedBy>sauber</cp:lastModifiedBy>
  <cp:lastPrinted>1999-12-27T17:36:52Z</cp:lastPrinted>
  <dcterms:modified xsi:type="dcterms:W3CDTF">1999-12-30T12:20:10Z</dcterms:modified>
  <cp:revision>58</cp:revision>
  <dc:subject/>
  <dc:title>LUXEMBOURG 2000</dc:title>
</cp:coreProperties>
</file>