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7B7F-F711-40BA-BBC7-F49B6DCA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2057-8C8F-437C-BEC1-6D8E09B0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A7A5-39F7-40B1-865B-6E310C947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C7C7-EC88-46B6-BC88-1124394D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856A-54D4-46FE-8D88-F16CE688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16B0-D90F-446F-8858-8F57FBD4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91CA-4D55-42F3-93EA-C5B180A3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64F3-31EA-4FCA-9290-DE75D96B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10E1-C3A4-4DA0-AC26-92B9F5A6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B192-BD2B-4333-BC86-2E3FD752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5625-1EF3-4981-BD05-436A5EF4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ADC3-8CD7-40EB-AFB8-556A4D62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3006-1BA9-43B1-BC75-AEA73DAB0A8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7800" y="330120"/>
            <a:ext cx="6191280" cy="61945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8480" y="2349360"/>
            <a:ext cx="56818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br>
              <a:rPr sz="2500"/>
            </a:br>
            <a:br>
              <a:rPr sz="2500"/>
            </a:b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See you in September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fr-FR" sz="2500" spc="-1" strike="noStrike">
                <a:solidFill>
                  <a:srgbClr val="ffffff"/>
                </a:solidFill>
                <a:latin typeface="Arial"/>
              </a:rPr>
              <a:t>over Geneva</a:t>
            </a: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” !</a:t>
            </a:r>
            <a:br>
              <a:rPr sz="2500"/>
            </a:br>
            <a:br>
              <a:rPr sz="30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836640"/>
            <a:ext cx="5830920" cy="5834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563920"/>
            <a:ext cx="5681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From Friday September 4th 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Saturday September 12th, 2009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54120" y="3789360"/>
            <a:ext cx="5681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Centre Sportif de Vessy – City of Genev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4508640"/>
            <a:ext cx="568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Hôtel Ramada Encore La Prail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1520" y="6329520"/>
            <a:ext cx="22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28480" y="260280"/>
          <a:ext cx="8291520" cy="58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260280"/>
                    <a:ext cx="829152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411280" y="443700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357336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4005360"/>
            <a:ext cx="1152360" cy="647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092720" y="2852640"/>
            <a:ext cx="1006200" cy="792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35772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Hôtel Ramada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La Pra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28000" y="220500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entre sporti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 Ves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189000"/>
            <a:ext cx="9074160" cy="647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76360" y="836640"/>
            <a:ext cx="5830920" cy="5832360"/>
            <a:chOff x="1476360" y="836640"/>
            <a:chExt cx="5830920" cy="5832360"/>
          </a:xfrm>
        </p:grpSpPr>
        <p:sp>
          <p:nvSpPr>
            <p:cNvPr id="73" name=""/>
            <p:cNvSpPr/>
            <p:nvPr/>
          </p:nvSpPr>
          <p:spPr>
            <a:xfrm>
              <a:off x="1476360" y="836640"/>
              <a:ext cx="5830920" cy="58323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46200" y="2421720"/>
              <a:ext cx="5681880" cy="273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95480" y="29019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City Welcome Party    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      7:30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6000" y="1557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0000"/>
                </a:solidFill>
                <a:latin typeface="Arial"/>
              </a:rPr>
              <a:t>Event Master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2133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ilot registration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9am-4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25099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General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46200" y="38606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Inflation balloons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40080" y="34909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reflight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49440" y="42433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Launch Window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pm on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67080" y="452916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(until Wednesday 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9.09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11:59p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3600" y="50166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Awards Banquet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2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381720"/>
            <a:ext cx="236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476360" y="779400"/>
            <a:ext cx="5830920" cy="5833800"/>
            <a:chOff x="1476360" y="779400"/>
            <a:chExt cx="5830920" cy="5833800"/>
          </a:xfrm>
        </p:grpSpPr>
        <p:sp>
          <p:nvSpPr>
            <p:cNvPr id="92" name=""/>
            <p:cNvSpPr/>
            <p:nvPr/>
          </p:nvSpPr>
          <p:spPr>
            <a:xfrm>
              <a:off x="1476360" y="779400"/>
              <a:ext cx="5830920" cy="58338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46200" y="2365200"/>
              <a:ext cx="568188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Registred NAC’s acceptanc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USA               3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rance           2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inland           1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Belgium         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Switzerland    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ermany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reat-Britain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Austria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6338880"/>
            <a:ext cx="210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02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7640" y="2781360"/>
              <a:ext cx="5681880" cy="17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Deadline for Pilots registration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ffff"/>
                  </a:solidFill>
                  <a:latin typeface="Arial"/>
                </a:rPr>
                <a:t>Thursday April 30th, 2009</a:t>
              </a:r>
              <a:r>
                <a:rPr b="1" lang="fr-FR" sz="3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br>
                <a:rPr sz="3000"/>
              </a:br>
              <a:br>
                <a:rPr sz="3000"/>
              </a:b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Including payment of the entry f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6343560"/>
            <a:ext cx="214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7800" y="835200"/>
            <a:ext cx="5830920" cy="5833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2708280"/>
            <a:ext cx="56818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Competition Organisation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Mr. Markus Hagge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  </a:t>
            </a: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Event Director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6200" y="6269040"/>
            <a:ext cx="203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21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47640" y="1366920"/>
              <a:ext cx="5681880" cy="41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br>
                <a:rPr sz="12000"/>
              </a:br>
              <a:endParaRPr b="0" lang="en-US" sz="3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38040" y="6270480"/>
            <a:ext cx="22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0:43:07Z</dcterms:created>
  <dc:creator>Militza Bodi</dc:creator>
  <dc:description/>
  <dc:language>en-US</dc:language>
  <cp:lastModifiedBy>Alex Nagorski</cp:lastModifiedBy>
  <dcterms:modified xsi:type="dcterms:W3CDTF">2009-04-25T03:20:05Z</dcterms:modified>
  <cp:revision>41</cp:revision>
  <dc:subject/>
  <dc:title>Diapositive 1</dc:title>
</cp:coreProperties>
</file>