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40FD8-737C-4C3A-8801-4D1998B7A36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ehr viele = 63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Zu weit = 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Zu kurz = 16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art = 27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3520" y="380484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9124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4296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5204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3352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4296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5204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294920" y="228240"/>
            <a:ext cx="75200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9124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3520" y="380484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9124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4296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5204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3352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4296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5204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294920" y="228240"/>
            <a:ext cx="75200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9124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50920" y="985680"/>
            <a:ext cx="8642160" cy="53294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6426360"/>
            <a:ext cx="7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JK06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-108000" y="0"/>
            <a:ext cx="1224000" cy="1450440"/>
            <a:chOff x="-108000" y="0"/>
            <a:chExt cx="1224000" cy="1450440"/>
          </a:xfrm>
        </p:grpSpPr>
        <p:sp>
          <p:nvSpPr>
            <p:cNvPr id="5" name=""/>
            <p:cNvSpPr/>
            <p:nvPr/>
          </p:nvSpPr>
          <p:spPr>
            <a:xfrm>
              <a:off x="-63720" y="183240"/>
              <a:ext cx="1179720" cy="1159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-108000" y="0"/>
              <a:ext cx="1224000" cy="1450440"/>
              <a:chOff x="-108000" y="0"/>
              <a:chExt cx="1224000" cy="1450440"/>
            </a:xfrm>
          </p:grpSpPr>
          <p:sp>
            <p:nvSpPr>
              <p:cNvPr id="7" name=""/>
              <p:cNvSpPr/>
              <p:nvPr/>
            </p:nvSpPr>
            <p:spPr>
              <a:xfrm>
                <a:off x="-108000" y="470160"/>
                <a:ext cx="12218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48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  </a:t>
                </a:r>
                <a:endParaRPr b="0" lang="en-US" sz="4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-64080" y="0"/>
                <a:ext cx="1180080" cy="1450440"/>
                <a:chOff x="-64080" y="0"/>
                <a:chExt cx="1180080" cy="1450440"/>
              </a:xfrm>
            </p:grpSpPr>
            <p:pic>
              <p:nvPicPr>
                <p:cNvPr id="9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-64080" y="0"/>
                  <a:ext cx="1180080" cy="1450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-64080" y="212040"/>
                  <a:ext cx="1142640" cy="1082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1" name=""/>
              <p:cNvSpPr/>
              <p:nvPr/>
            </p:nvSpPr>
            <p:spPr>
              <a:xfrm>
                <a:off x="7560" y="353520"/>
                <a:ext cx="979560" cy="95544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0920" y="985680"/>
            <a:ext cx="8642160" cy="53294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0"/>
            <a:ext cx="1223640" cy="1450440"/>
            <a:chOff x="0" y="0"/>
            <a:chExt cx="1223640" cy="1450440"/>
          </a:xfrm>
        </p:grpSpPr>
        <p:sp>
          <p:nvSpPr>
            <p:cNvPr id="51" name=""/>
            <p:cNvSpPr/>
            <p:nvPr/>
          </p:nvSpPr>
          <p:spPr>
            <a:xfrm>
              <a:off x="43920" y="183240"/>
              <a:ext cx="1179720" cy="1159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0" y="0"/>
              <a:ext cx="1223640" cy="1450440"/>
              <a:chOff x="0" y="0"/>
              <a:chExt cx="1223640" cy="145044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470160"/>
                <a:ext cx="12218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48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  </a:t>
                </a:r>
                <a:endParaRPr b="0" lang="en-US" sz="4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4" name=""/>
              <p:cNvGrpSpPr/>
              <p:nvPr/>
            </p:nvGrpSpPr>
            <p:grpSpPr>
              <a:xfrm>
                <a:off x="43560" y="0"/>
                <a:ext cx="1180080" cy="1450440"/>
                <a:chOff x="43560" y="0"/>
                <a:chExt cx="1180080" cy="1450440"/>
              </a:xfrm>
            </p:grpSpPr>
            <p:pic>
              <p:nvPicPr>
                <p:cNvPr id="55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3560" y="0"/>
                  <a:ext cx="1180080" cy="1450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3560" y="212040"/>
                  <a:ext cx="1142640" cy="1082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7" name=""/>
              <p:cNvSpPr/>
              <p:nvPr/>
            </p:nvSpPr>
            <p:spPr>
              <a:xfrm>
                <a:off x="115560" y="353520"/>
                <a:ext cx="979560" cy="95544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384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Arial"/>
              </a:rPr>
              <a:t>FAI-CIMP 2008</a:t>
            </a:r>
            <a:br>
              <a:rPr sz="4000"/>
            </a:br>
            <a:br>
              <a:rPr sz="4000"/>
            </a:br>
            <a:r>
              <a:rPr b="0" lang="de-DE" sz="4000" spc="-1" strike="noStrike">
                <a:solidFill>
                  <a:srgbClr val="ffff00"/>
                </a:solidFill>
                <a:latin typeface="Arial"/>
              </a:rPr>
              <a:t> Accident Rates in COMPETITION FLYING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56720" y="5300640"/>
            <a:ext cx="352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Jürgen K. Knüpp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Analysi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123640" y="1916280"/>
            <a:ext cx="4543560" cy="33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Phase of fligh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Level of Inju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Injur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304920" y="914400"/>
          <a:ext cx="853416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14400"/>
                    <a:ext cx="853416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Phase of Fligh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28600" y="990720"/>
          <a:ext cx="8534520" cy="533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90720"/>
                    <a:ext cx="8534520" cy="53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Victims (23)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304920" y="1066680"/>
          <a:ext cx="853416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66680"/>
                    <a:ext cx="853416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597204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Arial"/>
              </a:rPr>
              <a:t>Result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000" y="1295280"/>
            <a:ext cx="8373960" cy="49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60 %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of accidents without inju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55% 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ccidents while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Outlan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44 %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on 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Every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accident: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Colli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32000" y="188640"/>
            <a:ext cx="589896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9280" y="1268280"/>
            <a:ext cx="8302680" cy="51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There are glider accidents in competit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n about 1/3 of the accidents pilots get kil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Landing accidents are No.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Outlanding: a risk, not enough respec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Med. Emergency Treatment Concep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On Base:  anticipate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Off Base:  to be improv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ccidents on Bas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pecial preparation required! (Train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Consider modern Standards / Responsibilitie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00"/>
                </a:solidFill>
                <a:latin typeface="Arial"/>
              </a:rPr>
              <a:t>ETA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152360" y="981000"/>
            <a:ext cx="799164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ffff00"/>
                </a:solidFill>
                <a:latin typeface="Arial"/>
              </a:rPr>
              <a:t>Questions, Comments?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eromednews@t-online.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2340000" y="1125360"/>
            <a:ext cx="4318200" cy="5109840"/>
            <a:chOff x="2340000" y="1125360"/>
            <a:chExt cx="4318200" cy="5109840"/>
          </a:xfrm>
        </p:grpSpPr>
        <p:sp>
          <p:nvSpPr>
            <p:cNvPr id="226" name=""/>
            <p:cNvSpPr/>
            <p:nvPr/>
          </p:nvSpPr>
          <p:spPr>
            <a:xfrm>
              <a:off x="2495160" y="1771560"/>
              <a:ext cx="4163040" cy="408708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2340000" y="1125360"/>
              <a:ext cx="4317120" cy="5109840"/>
              <a:chOff x="2340000" y="1125360"/>
              <a:chExt cx="4317120" cy="5109840"/>
            </a:xfrm>
          </p:grpSpPr>
          <p:sp>
            <p:nvSpPr>
              <p:cNvPr id="228" name=""/>
              <p:cNvSpPr/>
              <p:nvPr/>
            </p:nvSpPr>
            <p:spPr>
              <a:xfrm>
                <a:off x="2340000" y="2781720"/>
                <a:ext cx="43117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48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  </a:t>
                </a:r>
                <a:endParaRPr b="0" lang="en-US" sz="4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29" name=""/>
              <p:cNvGrpSpPr/>
              <p:nvPr/>
            </p:nvGrpSpPr>
            <p:grpSpPr>
              <a:xfrm>
                <a:off x="2493720" y="1125360"/>
                <a:ext cx="4163400" cy="5109840"/>
                <a:chOff x="2493720" y="1125360"/>
                <a:chExt cx="4163400" cy="5109840"/>
              </a:xfrm>
            </p:grpSpPr>
            <p:pic>
              <p:nvPicPr>
                <p:cNvPr id="230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493720" y="1125360"/>
                  <a:ext cx="4163400" cy="5109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1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493720" y="1873080"/>
                  <a:ext cx="4031280" cy="3814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32" name=""/>
              <p:cNvSpPr/>
              <p:nvPr/>
            </p:nvSpPr>
            <p:spPr>
              <a:xfrm>
                <a:off x="2747880" y="2371320"/>
                <a:ext cx="3457080" cy="3366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3" name=""/>
          <p:cNvSpPr/>
          <p:nvPr/>
        </p:nvSpPr>
        <p:spPr>
          <a:xfrm>
            <a:off x="664920" y="251316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Hum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Fact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00"/>
                </a:solidFill>
                <a:latin typeface="Arial"/>
              </a:rPr>
              <a:t>Admin EASA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Old JAR FCL general Syllabu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imilar to Annex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No Updates so f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Questionable: HF Working 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New EASA Post: - HF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o far no practical advice for Gen Avi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cientific backround, resources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603440" y="4971960"/>
            <a:ext cx="5937120" cy="165744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bba58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21120" y="5421240"/>
            <a:ext cx="0" cy="149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376440" y="5857920"/>
            <a:ext cx="0" cy="336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922480" y="5661000"/>
            <a:ext cx="925560" cy="322200"/>
          </a:xfrm>
          <a:prstGeom prst="rect">
            <a:avLst/>
          </a:prstGeom>
          <a:solidFill>
            <a:srgbClr val="eaeaea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66840" y="6058080"/>
            <a:ext cx="2395800" cy="188640"/>
          </a:xfrm>
          <a:custGeom>
            <a:avLst/>
            <a:gdLst/>
            <a:ahLst/>
            <a:rect l="l" t="t" r="r" b="b"/>
            <a:pathLst>
              <a:path w="1990" h="249">
                <a:moveTo>
                  <a:pt x="0" y="229"/>
                </a:moveTo>
                <a:lnTo>
                  <a:pt x="0" y="0"/>
                </a:lnTo>
                <a:lnTo>
                  <a:pt x="1989" y="0"/>
                </a:lnTo>
                <a:lnTo>
                  <a:pt x="1989" y="248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070520" y="6156360"/>
            <a:ext cx="958680" cy="3459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68080" y="6135840"/>
            <a:ext cx="7668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erceptu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24280" y="6151680"/>
            <a:ext cx="923760" cy="35388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90520" y="6135840"/>
            <a:ext cx="792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kill-Base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76440" y="5575320"/>
            <a:ext cx="3022920" cy="154080"/>
          </a:xfrm>
          <a:custGeom>
            <a:avLst/>
            <a:gdLst/>
            <a:ahLst/>
            <a:rect l="l" t="t" r="r" b="b"/>
            <a:pathLst>
              <a:path w="2929" h="151">
                <a:moveTo>
                  <a:pt x="0" y="117"/>
                </a:moveTo>
                <a:lnTo>
                  <a:pt x="0" y="0"/>
                </a:lnTo>
                <a:lnTo>
                  <a:pt x="2928" y="0"/>
                </a:lnTo>
                <a:lnTo>
                  <a:pt x="2928" y="150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55920" y="5076720"/>
            <a:ext cx="1116360" cy="378000"/>
          </a:xfrm>
          <a:prstGeom prst="ellipse">
            <a:avLst/>
          </a:prstGeom>
          <a:solidFill>
            <a:srgbClr val="fd09a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UNSAF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ACT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17800" y="5661000"/>
            <a:ext cx="927000" cy="3222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01720" y="6151680"/>
            <a:ext cx="922320" cy="35388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48240" y="6134040"/>
            <a:ext cx="638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Decis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89520" y="6058080"/>
            <a:ext cx="1203480" cy="136440"/>
          </a:xfrm>
          <a:custGeom>
            <a:avLst/>
            <a:gdLst/>
            <a:ahLst/>
            <a:rect l="l" t="t" r="r" b="b"/>
            <a:pathLst>
              <a:path w="1001" h="182">
                <a:moveTo>
                  <a:pt x="0" y="167"/>
                </a:moveTo>
                <a:lnTo>
                  <a:pt x="0" y="0"/>
                </a:lnTo>
                <a:lnTo>
                  <a:pt x="1000" y="0"/>
                </a:lnTo>
                <a:lnTo>
                  <a:pt x="1000" y="181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518160" y="6149880"/>
            <a:ext cx="925560" cy="35892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70360" y="6210360"/>
            <a:ext cx="822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xceptio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560" y="6154560"/>
            <a:ext cx="925560" cy="3477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494320" y="6208560"/>
            <a:ext cx="611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Routin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99360" y="5851440"/>
            <a:ext cx="0" cy="192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929200" y="5651640"/>
            <a:ext cx="927360" cy="3204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30360" y="5711760"/>
            <a:ext cx="731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Viol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279440"/>
            <a:ext cx="5181840" cy="135756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bba58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700360" y="1946160"/>
            <a:ext cx="3786120" cy="160560"/>
          </a:xfrm>
          <a:custGeom>
            <a:avLst/>
            <a:gdLst/>
            <a:ahLst/>
            <a:rect l="l" t="t" r="r" b="b"/>
            <a:pathLst>
              <a:path w="2609" h="149">
                <a:moveTo>
                  <a:pt x="0" y="104"/>
                </a:moveTo>
                <a:lnTo>
                  <a:pt x="0" y="0"/>
                </a:lnTo>
                <a:lnTo>
                  <a:pt x="2608" y="0"/>
                </a:lnTo>
                <a:lnTo>
                  <a:pt x="2608" y="148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651200" y="1757520"/>
            <a:ext cx="0" cy="188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65400" y="1946160"/>
            <a:ext cx="0" cy="128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64280" y="1932120"/>
            <a:ext cx="0" cy="142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441600" y="2050920"/>
            <a:ext cx="1047960" cy="4683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989680" y="2055960"/>
            <a:ext cx="984240" cy="4680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73600" y="2050920"/>
            <a:ext cx="981000" cy="4683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168640" y="2055960"/>
            <a:ext cx="984240" cy="4680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46040" y="2101680"/>
            <a:ext cx="821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Inadequat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upervis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489480" y="2021040"/>
            <a:ext cx="94968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lanne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Inappropriat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Oper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936680" y="2021040"/>
            <a:ext cx="65844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Failed to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Correc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roble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75360" y="2097000"/>
            <a:ext cx="836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upervisor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Viol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014720" y="1353960"/>
            <a:ext cx="1346400" cy="466920"/>
          </a:xfrm>
          <a:prstGeom prst="ellipse">
            <a:avLst/>
          </a:prstGeom>
          <a:solidFill>
            <a:srgbClr val="fd09a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27000" bIns="27000" anchor="b" anchorCtr="1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UNSAF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SUPERVIS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712960"/>
            <a:ext cx="7010640" cy="21844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bba58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00320" y="3514680"/>
            <a:ext cx="3543480" cy="149400"/>
          </a:xfrm>
          <a:custGeom>
            <a:avLst/>
            <a:gdLst/>
            <a:ahLst/>
            <a:rect l="l" t="t" r="r" b="b"/>
            <a:pathLst>
              <a:path w="2877" h="149">
                <a:moveTo>
                  <a:pt x="0" y="116"/>
                </a:moveTo>
                <a:lnTo>
                  <a:pt x="0" y="0"/>
                </a:lnTo>
                <a:lnTo>
                  <a:pt x="2876" y="0"/>
                </a:lnTo>
                <a:lnTo>
                  <a:pt x="2876" y="148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76440" y="3619440"/>
            <a:ext cx="1238400" cy="471600"/>
          </a:xfrm>
          <a:prstGeom prst="rect">
            <a:avLst/>
          </a:prstGeom>
          <a:solidFill>
            <a:srgbClr val="00ffff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Substandard Conditions of Operat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849920" y="3338280"/>
            <a:ext cx="3240" cy="169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14640" y="2820960"/>
            <a:ext cx="1873440" cy="5572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28560" y="2832120"/>
            <a:ext cx="12499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PRECONDI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F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UNSAFE ACT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00320" y="4052880"/>
            <a:ext cx="0" cy="331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11160" y="4178160"/>
            <a:ext cx="2590920" cy="201600"/>
          </a:xfrm>
          <a:custGeom>
            <a:avLst/>
            <a:gdLst/>
            <a:ahLst/>
            <a:rect l="l" t="t" r="r" b="b"/>
            <a:pathLst>
              <a:path w="1789" h="153">
                <a:moveTo>
                  <a:pt x="0" y="140"/>
                </a:moveTo>
                <a:lnTo>
                  <a:pt x="0" y="0"/>
                </a:lnTo>
                <a:lnTo>
                  <a:pt x="1788" y="0"/>
                </a:lnTo>
                <a:lnTo>
                  <a:pt x="1788" y="152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476440" y="3619440"/>
            <a:ext cx="1238400" cy="4716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ubstandard Conditions of Operat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14640" y="2820960"/>
            <a:ext cx="1873440" cy="557280"/>
          </a:xfrm>
          <a:prstGeom prst="ellipse">
            <a:avLst/>
          </a:prstGeom>
          <a:solidFill>
            <a:srgbClr val="fd09a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81040" y="2843280"/>
            <a:ext cx="12499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PRECONDI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F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UNSAFE ACT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6629400" y="4052880"/>
            <a:ext cx="1440" cy="150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35680" y="4178160"/>
            <a:ext cx="1388880" cy="201600"/>
          </a:xfrm>
          <a:custGeom>
            <a:avLst/>
            <a:gdLst/>
            <a:ahLst/>
            <a:rect l="l" t="t" r="r" b="b"/>
            <a:pathLst>
              <a:path w="1789" h="153">
                <a:moveTo>
                  <a:pt x="0" y="140"/>
                </a:moveTo>
                <a:lnTo>
                  <a:pt x="0" y="0"/>
                </a:lnTo>
                <a:lnTo>
                  <a:pt x="1788" y="0"/>
                </a:lnTo>
                <a:lnTo>
                  <a:pt x="1788" y="152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48080" y="4308480"/>
            <a:ext cx="1112760" cy="46368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476440" y="4268880"/>
            <a:ext cx="12524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Adverse Physiological Stat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75040" y="4305240"/>
            <a:ext cx="1112760" cy="4716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68560" y="4268880"/>
            <a:ext cx="113040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hysical/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Ment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Limit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27240" y="4309920"/>
            <a:ext cx="1109520" cy="462240"/>
          </a:xfrm>
          <a:prstGeom prst="rect">
            <a:avLst/>
          </a:prstGeom>
          <a:solidFill>
            <a:srgbClr val="ffffcc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51000" y="4343400"/>
            <a:ext cx="10746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Adverse Mental Stat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27240" y="4309920"/>
            <a:ext cx="1109520" cy="46224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51000" y="4343400"/>
            <a:ext cx="10746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Adverse Mental Stat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767640" y="4305240"/>
            <a:ext cx="1112760" cy="4716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81680" y="4343400"/>
            <a:ext cx="10749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ersonal Readine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267160" y="4308480"/>
            <a:ext cx="1283040" cy="46368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205240" y="4338720"/>
            <a:ext cx="14050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Crew Resource Mismanage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05520" y="3621240"/>
            <a:ext cx="1262160" cy="47124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ubstandard Practices of Operat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629080" y="76320"/>
            <a:ext cx="3886200" cy="113004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bba58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70240" y="625320"/>
            <a:ext cx="2590920" cy="139680"/>
          </a:xfrm>
          <a:custGeom>
            <a:avLst/>
            <a:gdLst/>
            <a:ahLst/>
            <a:rect l="l" t="t" r="r" b="b"/>
            <a:pathLst>
              <a:path w="2609" h="149">
                <a:moveTo>
                  <a:pt x="0" y="104"/>
                </a:moveTo>
                <a:lnTo>
                  <a:pt x="0" y="0"/>
                </a:lnTo>
                <a:lnTo>
                  <a:pt x="2608" y="0"/>
                </a:lnTo>
                <a:lnTo>
                  <a:pt x="2608" y="148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762280" y="717480"/>
            <a:ext cx="1041480" cy="43992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34640" y="752400"/>
            <a:ext cx="8931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Resourc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Manage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95640" y="692280"/>
            <a:ext cx="1109880" cy="4395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086360" y="733320"/>
            <a:ext cx="1001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Organizatio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Climat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2320" y="717480"/>
            <a:ext cx="1041480" cy="43992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3200" y="752400"/>
            <a:ext cx="1001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Organizatio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roce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438120"/>
            <a:ext cx="1440" cy="176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0560" y="287280"/>
            <a:ext cx="1440" cy="98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24280" y="125280"/>
            <a:ext cx="1495440" cy="424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24280" y="125280"/>
            <a:ext cx="1495440" cy="424080"/>
          </a:xfrm>
          <a:prstGeom prst="ellipse">
            <a:avLst/>
          </a:prstGeom>
          <a:solidFill>
            <a:srgbClr val="fd09a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60640" y="152280"/>
            <a:ext cx="13762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ORGANIZATIO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INFLUENC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21040" y="511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447920" y="2867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08240" y="1298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706840" y="76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094160" y="189000"/>
            <a:ext cx="149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FA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920640" y="6607080"/>
            <a:ext cx="222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Modified and adapted by Shappell 200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fade thruBlk="true"/>
      </p:transition>
    </mc:Choice>
    <mc:Fallback>
      <p:transition spd="slow">
        <p:fade thruBlk="true"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Percentage of recommendations</a:t>
            </a:r>
            <a:br>
              <a:rPr sz="2400"/>
            </a:b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associated with each intervention category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Intervention Category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        %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dministrative/Organizational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34.1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Rules/Regulations/Policies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9.29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Information management/ Comm.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3.76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Research/Special study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0.44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9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Human resource management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0.69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Mechanical/Engineering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31.2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Design/Repair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23.17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2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Inspection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8.03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Human/Crew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11.4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Training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1.47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Task/Mission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23.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Procedures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4.56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2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Manuals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8.60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00"/>
                </a:solidFill>
                <a:latin typeface="Arial"/>
              </a:rPr>
              <a:t>HFAC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ccident Classification Taxono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Track Mishap Trends (over time, interna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pplicability (Mil, Airlines, GenAviat, Mai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Evaluate Effectiveness of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Valid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nter Rater Reli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cceptable Levels of Expert Agre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Other Mishap Classification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Direct manpower and funds        -other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4360" y="1773360"/>
            <a:ext cx="777384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 u="sng">
                <a:solidFill>
                  <a:srgbClr val="ffff00"/>
                </a:solidFill>
                <a:uFillTx/>
                <a:latin typeface="Arial"/>
              </a:rPr>
              <a:t>Glider-Competitions</a:t>
            </a:r>
            <a:r>
              <a:rPr b="0" lang="de-DE" sz="4800" spc="-1" strike="noStrike">
                <a:solidFill>
                  <a:srgbClr val="ffff00"/>
                </a:solidFill>
                <a:latin typeface="Arial"/>
              </a:rPr>
              <a:t> Analysis of </a:t>
            </a:r>
            <a:r>
              <a:rPr b="0" lang="de-DE" sz="4800" spc="-1" strike="noStrike" u="sng">
                <a:solidFill>
                  <a:srgbClr val="ffff00"/>
                </a:solidFill>
                <a:uFillTx/>
                <a:latin typeface="Arial"/>
              </a:rPr>
              <a:t>Accident Data</a:t>
            </a:r>
            <a:r>
              <a:rPr b="0" lang="de-DE" sz="4800" spc="-1" strike="noStrike">
                <a:solidFill>
                  <a:srgbClr val="ffff00"/>
                </a:solidFill>
                <a:latin typeface="Arial"/>
              </a:rPr>
              <a:t>  1998 - 2007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476000" y="5333760"/>
            <a:ext cx="637236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Jürgen K. Knüpp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Subjec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Requirements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for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Emergency Services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t glider competit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Accident Data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BFU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(Ge. Inst. f. accident invstigation)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Statistics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: Accidents 1998 -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Analysis of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Distribution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„Onbase“ / „Offbase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Summ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Collected Data of BFU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95360" y="1295280"/>
            <a:ext cx="8308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www.bfu-web.de </a:t>
            </a:r>
            <a:r>
              <a:rPr b="1" lang="de-DE" sz="36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de-DE" sz="3200" spc="-1" strike="noStrike">
                <a:solidFill>
                  <a:srgbClr val="ffff00"/>
                </a:solidFill>
                <a:latin typeface="Symbol"/>
                <a:ea typeface="Symbol"/>
              </a:rPr>
              <a:t>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sorted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nnual Reports, Glider Competit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250920" y="2637000"/>
          <a:ext cx="8575560" cy="164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637000"/>
                    <a:ext cx="8575560" cy="16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3059280" y="4292640"/>
            <a:ext cx="27367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nju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Ld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On-B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24360" y="4292640"/>
            <a:ext cx="30243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Kill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Out-Lan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Off-Base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95280" y="4292640"/>
            <a:ext cx="23432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No Inju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T/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olli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384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ffff00"/>
                </a:solidFill>
                <a:latin typeface="Arial"/>
              </a:rPr>
              <a:t>35 accidents in “Glider“ Competitions in 10 Years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ustis</cp:lastModifiedBy>
  <dcterms:modified xsi:type="dcterms:W3CDTF">2014-04-26T21:26:56Z</dcterms:modified>
  <cp:revision>56</cp:revision>
  <dc:subject/>
  <dc:title>PowerPoint Presentation</dc:title>
</cp:coreProperties>
</file>