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907588" cy="6858000"/>
  <p:notesSz cx="9932988" cy="6792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932400" cy="679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5627160" y="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3125520" y="509400"/>
            <a:ext cx="3679560" cy="2547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Eurostile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1324080" y="3227040"/>
            <a:ext cx="7283520" cy="30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-360" y="645480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5627160" y="645480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5A220-AD53-4FB0-B8F8-19351250B43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7"/>
          <p:cNvSpPr/>
          <p:nvPr/>
        </p:nvSpPr>
        <p:spPr>
          <a:xfrm>
            <a:off x="5627520" y="645480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E3D99-5BCF-4F93-94C2-66D16580377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3125880" y="509760"/>
            <a:ext cx="3679560" cy="254772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1324080" y="3227040"/>
            <a:ext cx="7283520" cy="30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gfdngfdng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7"/>
          <p:cNvSpPr/>
          <p:nvPr/>
        </p:nvSpPr>
        <p:spPr>
          <a:xfrm>
            <a:off x="5627520" y="645480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7306D-F650-4C5E-8923-8586DA85221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3125880" y="509760"/>
            <a:ext cx="3679560" cy="254772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1324080" y="3227040"/>
            <a:ext cx="7283520" cy="3057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Inproper disclosure of internal working documents &amp; discus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B08FF-A38B-4A6E-A334-5A7B2B3BA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72520" y="1412640"/>
            <a:ext cx="93726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72520" y="3840480"/>
            <a:ext cx="93726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E12FC-D1B4-4C5F-948B-02AA8E449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72520" y="141264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075280" y="141264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272520" y="384048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075280" y="384048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02251-A4DD-4687-9209-32CD0864E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72520" y="1412640"/>
            <a:ext cx="301788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441600" y="1412640"/>
            <a:ext cx="301788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610680" y="1412640"/>
            <a:ext cx="301788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272520" y="3840480"/>
            <a:ext cx="301788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441600" y="3840480"/>
            <a:ext cx="301788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610680" y="3840480"/>
            <a:ext cx="301788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5433C-EFDB-43A8-9FF7-379A326D9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272520" y="1412640"/>
            <a:ext cx="9372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BD378-2D4A-4952-86FB-E0B368E8B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72520" y="1412640"/>
            <a:ext cx="9372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9D0F5-F294-4C63-8C67-AFD19BBB5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72520" y="1412640"/>
            <a:ext cx="45738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075280" y="1412640"/>
            <a:ext cx="45738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54D7A-394D-4B41-96EB-9D5053BA0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CACDB-E912-455D-9110-6B52E6477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266760" y="228240"/>
            <a:ext cx="94867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80FD4-A8C3-4E38-9D11-F45529A49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72520" y="141264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75280" y="1412640"/>
            <a:ext cx="45738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72520" y="384048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24360-FDA6-4869-B8EF-3E2472405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72520" y="1412640"/>
            <a:ext cx="45738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75280" y="141264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75280" y="384048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6D9F0-EB0A-4E4E-97FD-E9B1DA907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72520" y="141264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75280" y="141264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72520" y="3840480"/>
            <a:ext cx="93726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DDDB7-582B-4B37-A56A-CEBB008C8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66760" y="228240"/>
            <a:ext cx="94867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Eurostil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72520" y="1412640"/>
            <a:ext cx="9372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urostil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lvl="1" marL="343080" indent="-343080">
              <a:spcBef>
                <a:spcPts val="799"/>
              </a:spcBef>
              <a:buClr>
                <a:srgbClr val="003366"/>
              </a:buClr>
              <a:buSzPct val="70000"/>
              <a:buFont typeface="Wingdings 2" charset="2"/>
              <a:buChar char="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urostil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Eurosti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urostil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Eurostil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urostil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Eurostil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urostil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Eurostil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urostil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Eurostil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urostil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320" y="6552720"/>
            <a:ext cx="2063520" cy="22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D3180-0577-4CE7-AB23-20C3A6C473B2}" type="datetime">
              <a:rPr b="1" lang="fr-FR" sz="1200" spc="-1" strike="noStrike">
                <a:solidFill>
                  <a:srgbClr val="000000"/>
                </a:solidFill>
                <a:latin typeface="Arial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772040" y="6552720"/>
            <a:ext cx="2063880" cy="30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8F7BE-D46F-4F70-BAAC-A095FE61ED6A}" type="slidenum">
              <a:rPr b="1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2"/>
          <p:cNvSpPr/>
          <p:nvPr/>
        </p:nvSpPr>
        <p:spPr>
          <a:xfrm>
            <a:off x="152280" y="6553080"/>
            <a:ext cx="8458200" cy="0"/>
          </a:xfrm>
          <a:prstGeom prst="line">
            <a:avLst/>
          </a:prstGeom>
          <a:ln w="9360">
            <a:solidFill>
              <a:srgbClr val="a28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13"/>
          <p:cNvSpPr/>
          <p:nvPr/>
        </p:nvSpPr>
        <p:spPr>
          <a:xfrm>
            <a:off x="9372600" y="6553080"/>
            <a:ext cx="380880" cy="0"/>
          </a:xfrm>
          <a:prstGeom prst="line">
            <a:avLst/>
          </a:prstGeom>
          <a:ln w="9360">
            <a:solidFill>
              <a:srgbClr val="a28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14" descr="logo_fai_02_cmyk copie"/>
          <p:cNvPicPr/>
          <p:nvPr/>
        </p:nvPicPr>
        <p:blipFill>
          <a:blip r:embed="rId3"/>
          <a:stretch/>
        </p:blipFill>
        <p:spPr>
          <a:xfrm>
            <a:off x="8763120" y="5865840"/>
            <a:ext cx="495360" cy="865080"/>
          </a:xfrm>
          <a:prstGeom prst="rect">
            <a:avLst/>
          </a:prstGeom>
          <a:ln w="0">
            <a:noFill/>
          </a:ln>
        </p:spPr>
      </p:pic>
      <p:sp>
        <p:nvSpPr>
          <p:cNvPr id="8" name="Espace réservé de la date 3"/>
          <p:cNvSpPr/>
          <p:nvPr/>
        </p:nvSpPr>
        <p:spPr>
          <a:xfrm>
            <a:off x="0" y="6629400"/>
            <a:ext cx="2063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JK</a:t>
            </a:r>
            <a:fld id="{245129AF-0BE6-4CFC-90F6-27624D3291BB}" type="datetime">
              <a:rPr b="1" lang="fr-FR" sz="1200" spc="-1" strike="noStrike">
                <a:solidFill>
                  <a:srgbClr val="000000"/>
                </a:solidFill>
                <a:latin typeface="Arial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logo_fai_02_cmyk copie"/>
          <p:cNvPicPr/>
          <p:nvPr/>
        </p:nvPicPr>
        <p:blipFill>
          <a:blip r:embed="rId2"/>
          <a:stretch/>
        </p:blipFill>
        <p:spPr>
          <a:xfrm>
            <a:off x="992160" y="333360"/>
            <a:ext cx="1341360" cy="215892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72520" y="4878000"/>
            <a:ext cx="9372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Eurostile"/>
              </a:rPr>
              <a:t>CIMP </a:t>
            </a:r>
            <a:br>
              <a:rPr sz="4400"/>
            </a:br>
            <a:r>
              <a:rPr b="0" lang="fr-FR" sz="2000" spc="-1" strike="noStrike">
                <a:solidFill>
                  <a:srgbClr val="000000"/>
                </a:solidFill>
                <a:latin typeface="Eurostile"/>
              </a:rPr>
              <a:t>COMMISSION INTERNATIONALE MÉDICO-PHYSIOLOGIQUE</a:t>
            </a:r>
            <a:r>
              <a:rPr b="0" lang="fr-FR" sz="4400" spc="-1" strike="noStrike">
                <a:solidFill>
                  <a:srgbClr val="000000"/>
                </a:solidFill>
                <a:latin typeface="Eurostile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pic>
        <p:nvPicPr>
          <p:cNvPr id="54" name="Picture 4" descr="logo_cimp_01_cmyk (300-15)"/>
          <p:cNvPicPr/>
          <p:nvPr/>
        </p:nvPicPr>
        <p:blipFill>
          <a:blip r:embed="rId3"/>
          <a:stretch/>
        </p:blipFill>
        <p:spPr>
          <a:xfrm>
            <a:off x="3152880" y="2421000"/>
            <a:ext cx="3132000" cy="192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72520" y="259920"/>
            <a:ext cx="943956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6000" spc="-1" strike="noStrike" u="sng">
                <a:solidFill>
                  <a:srgbClr val="000000"/>
                </a:solidFill>
                <a:uFillTx/>
                <a:latin typeface="Eurostile"/>
              </a:rPr>
              <a:t>FAI   -   CIMP</a:t>
            </a:r>
            <a:endParaRPr b="0" lang="en-US" sz="60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2520" y="1412640"/>
            <a:ext cx="9372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3200" spc="-1" strike="noStrike">
                <a:solidFill>
                  <a:srgbClr val="000000"/>
                </a:solidFill>
                <a:latin typeface="Eurostile"/>
              </a:rPr>
              <a:t>Status 2014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32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3200" spc="-1" strike="noStrike">
                <a:solidFill>
                  <a:srgbClr val="000000"/>
                </a:solidFill>
                <a:latin typeface="Eurostile"/>
              </a:rPr>
              <a:t>-Flexibility in Oxygen Rules </a:t>
            </a: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(EASA)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32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3200" spc="-1" strike="noStrike">
                <a:solidFill>
                  <a:srgbClr val="000000"/>
                </a:solidFill>
                <a:latin typeface="Eurostile"/>
              </a:rPr>
              <a:t>-EAS: “</a:t>
            </a: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Drivers Licence“</a:t>
            </a:r>
            <a:r>
              <a:rPr b="1" lang="de-DE" sz="3200" spc="-1" strike="noStrike">
                <a:solidFill>
                  <a:srgbClr val="000000"/>
                </a:solidFill>
                <a:latin typeface="Eurostile"/>
              </a:rPr>
              <a:t> Pilot Medical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32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3200" spc="-1" strike="noStrike">
                <a:solidFill>
                  <a:srgbClr val="000000"/>
                </a:solidFill>
                <a:latin typeface="Eurostile"/>
              </a:rPr>
              <a:t>-Current Issues to decide on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Eurostile"/>
              </a:rPr>
              <a:t>WADA request paper: </a:t>
            </a:r>
            <a:endParaRPr b="0" lang="en-US" sz="24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Eurostile"/>
              </a:rPr>
              <a:t>Physiological Stresses in Air-Sports</a:t>
            </a:r>
            <a:r>
              <a:rPr b="0" lang="de-DE" sz="2400" spc="-1" strike="noStrike">
                <a:solidFill>
                  <a:srgbClr val="000000"/>
                </a:solidFill>
                <a:latin typeface="Eurostile"/>
              </a:rPr>
              <a:t>, various Disciplines</a:t>
            </a:r>
            <a:endParaRPr b="0" lang="en-US" sz="24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Eurostile"/>
              </a:rPr>
              <a:t>Juergen K Knueppel,  MD</a:t>
            </a:r>
            <a:endParaRPr b="0" lang="en-US" sz="2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Eurostile"/>
              </a:rPr>
              <a:t>President FAI CIMP</a:t>
            </a:r>
            <a:endParaRPr b="0" lang="en-US" sz="2000" spc="-1" strike="noStrike">
              <a:solidFill>
                <a:srgbClr val="000000"/>
              </a:solidFill>
              <a:latin typeface="Eurosti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Espace réservé du numéro de diapositive 5"/>
          <p:cNvSpPr/>
          <p:nvPr/>
        </p:nvSpPr>
        <p:spPr>
          <a:xfrm>
            <a:off x="7772400" y="6553080"/>
            <a:ext cx="2063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957CD-0BBE-43FF-8C38-AB3F89DE9163}" type="slidenum">
              <a:rPr b="1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99800" y="259920"/>
            <a:ext cx="955332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Eurostile"/>
              </a:rPr>
              <a:t>Practical recommendation</a:t>
            </a:r>
            <a:r>
              <a:rPr b="1" lang="en-US" sz="2000" spc="-1" strike="noStrike">
                <a:solidFill>
                  <a:srgbClr val="000000"/>
                </a:solidFill>
                <a:latin typeface="Eurostile"/>
              </a:rPr>
              <a:t> to Federations FAI Anti-Doping Work-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Eurostile"/>
              </a:rPr>
              <a:t> </a:t>
            </a:r>
            <a:r>
              <a:rPr b="1" lang="en-US" sz="2800" spc="-1" strike="noStrike">
                <a:solidFill>
                  <a:srgbClr val="e60c7e"/>
                </a:solidFill>
                <a:latin typeface="Eurostile"/>
              </a:rPr>
              <a:t>Where are we? – What to improve?</a:t>
            </a:r>
            <a:endParaRPr b="0" lang="en-US" sz="28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59" name="Rectangle 2"/>
          <p:cNvSpPr/>
          <p:nvPr/>
        </p:nvSpPr>
        <p:spPr>
          <a:xfrm>
            <a:off x="152280" y="1065240"/>
            <a:ext cx="9753840" cy="9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272880" y="1413000"/>
            <a:ext cx="9360000" cy="48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Eurostile"/>
                <a:ea typeface="MS Gothic"/>
              </a:rPr>
              <a:t>Federations require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3366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Anti Doping Manager</a:t>
            </a:r>
            <a:r>
              <a:rPr b="0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3366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Federation Board Member</a:t>
            </a:r>
            <a:r>
              <a:rPr b="0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3366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Contact to WADA, Sport Accord, NADO </a:t>
            </a:r>
            <a:r>
              <a:rPr b="0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Eurostile"/>
                <a:ea typeface="MS Gothic"/>
              </a:rPr>
              <a:t>(National Anti-Doping Organization)</a:t>
            </a:r>
            <a:r>
              <a:rPr b="0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    </a:t>
            </a:r>
            <a:r>
              <a:rPr b="0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&gt; </a:t>
            </a:r>
            <a:r>
              <a:rPr b="0" i="1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how rules &amp; violations get handled</a:t>
            </a:r>
            <a:r>
              <a:rPr b="0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 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3366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Legal Advisor</a:t>
            </a:r>
            <a:r>
              <a:rPr b="0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3366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Medical Advisor</a:t>
            </a:r>
            <a:r>
              <a:rPr b="0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3366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e60c7e"/>
                </a:solidFill>
                <a:latin typeface="Eurostile"/>
                <a:ea typeface="MS Gothic"/>
              </a:rPr>
              <a:t>Proactive Training, Ambassadors</a:t>
            </a:r>
            <a:r>
              <a:rPr b="0" lang="en-GB" sz="2200" spc="-1" strike="noStrike">
                <a:solidFill>
                  <a:srgbClr val="e60c7e"/>
                </a:solidFill>
                <a:latin typeface="Eurostile"/>
                <a:ea typeface="MS Gothic"/>
              </a:rPr>
              <a:t> </a:t>
            </a:r>
            <a:r>
              <a:rPr b="0" lang="en-GB" sz="2200" spc="-1" strike="noStrike">
                <a:solidFill>
                  <a:srgbClr val="e60c7e"/>
                </a:solidFill>
                <a:latin typeface="Eurostile"/>
                <a:ea typeface="MS Gothic"/>
              </a:rPr>
              <a:t>	</a:t>
            </a:r>
            <a:r>
              <a:rPr b="0" lang="en-GB" sz="2200" spc="-1" strike="noStrike">
                <a:solidFill>
                  <a:srgbClr val="e60c7e"/>
                </a:solidFill>
                <a:latin typeface="Eurostile"/>
                <a:ea typeface="MS Gothic"/>
              </a:rPr>
              <a:t>	</a:t>
            </a:r>
            <a:r>
              <a:rPr b="0" lang="en-GB" sz="2200" spc="-1" strike="noStrike">
                <a:solidFill>
                  <a:srgbClr val="e60c7e"/>
                </a:solidFill>
                <a:latin typeface="Eurostile"/>
                <a:ea typeface="MS Gothic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3366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e60c7e"/>
                </a:solidFill>
                <a:latin typeface="Eurostile"/>
                <a:ea typeface="MS Gothic"/>
              </a:rPr>
              <a:t>Anti Doping-PR, Presentations </a:t>
            </a:r>
            <a:r>
              <a:rPr b="0" lang="en-GB" sz="2200" spc="-1" strike="noStrike">
                <a:solidFill>
                  <a:srgbClr val="e60c7e"/>
                </a:solidFill>
                <a:latin typeface="Eurostile"/>
                <a:ea typeface="MS Gothic"/>
              </a:rPr>
              <a:t> </a:t>
            </a:r>
            <a:r>
              <a:rPr b="0" lang="en-GB" sz="2200" spc="-1" strike="noStrike">
                <a:solidFill>
                  <a:srgbClr val="e60c7e"/>
                </a:solidFill>
                <a:latin typeface="Eurostile"/>
                <a:ea typeface="MS Gothic"/>
              </a:rPr>
              <a:t>	</a:t>
            </a:r>
            <a:r>
              <a:rPr b="0" lang="en-GB" sz="2200" spc="-1" strike="noStrike">
                <a:solidFill>
                  <a:srgbClr val="e60c7e"/>
                </a:solidFill>
                <a:latin typeface="Eurostile"/>
                <a:ea typeface="MS Gothic"/>
              </a:rPr>
              <a:t>&gt; </a:t>
            </a:r>
            <a:r>
              <a:rPr b="1" lang="en-GB" sz="2200" spc="-1" strike="noStrike">
                <a:solidFill>
                  <a:srgbClr val="e60c7e"/>
                </a:solidFill>
                <a:latin typeface="Eurostile"/>
                <a:ea typeface="MS Gothic"/>
              </a:rPr>
              <a:t>Competent Persons 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3366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Immediate Contact to FAI</a:t>
            </a:r>
            <a:r>
              <a:rPr b="0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(when a “</a:t>
            </a:r>
            <a:r>
              <a:rPr b="1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Case”</a:t>
            </a:r>
            <a:r>
              <a:rPr b="0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 is opened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72520" y="260280"/>
            <a:ext cx="94870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Eurostile"/>
              </a:rPr>
              <a:t>Flight Stresses in Sports-Aviation  </a:t>
            </a:r>
            <a:r>
              <a:rPr b="0" lang="en-GB" sz="1400" spc="-1" strike="noStrike">
                <a:solidFill>
                  <a:srgbClr val="000000"/>
                </a:solidFill>
                <a:latin typeface="Eurostile"/>
              </a:rPr>
              <a:t>(FAICIMP first draft opinion 052014)</a:t>
            </a:r>
            <a:endParaRPr b="0" lang="en-US" sz="1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-360" y="907560"/>
            <a:ext cx="9906120" cy="496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0" lang="en-GB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1 =min / 5= max     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ACRO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Modeli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Ballon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GA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Glidng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ParaGl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MicroL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ParChu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Heli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i="1" lang="de-DE" sz="1400" spc="-1" strike="noStrike" u="sng">
                <a:solidFill>
                  <a:srgbClr val="000000"/>
                </a:solidFill>
                <a:uFillTx/>
                <a:latin typeface="Eurostile"/>
              </a:rPr>
              <a:t>"Stresses"</a:t>
            </a:r>
            <a:r>
              <a:rPr b="0" i="1" lang="de-DE" sz="1000" spc="-1" strike="noStrike" u="sng">
                <a:solidFill>
                  <a:srgbClr val="000000"/>
                </a:solidFill>
                <a:uFillTx/>
                <a:latin typeface="Eurostile"/>
              </a:rPr>
              <a:t>	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1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MentalStrain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NutritionStress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1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ChronoBioStrain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OrientationalStr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PrecisionCoord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6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MuscleForces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1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7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G-Forces 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1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1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8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CardioStress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1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9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ExtremeTemp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10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VisualPerform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11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HypobaricCond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1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12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Hypoxia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1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1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272520" y="691920"/>
            <a:ext cx="963324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3200" spc="-1" strike="noStrike">
                <a:solidFill>
                  <a:srgbClr val="000000"/>
                </a:solidFill>
                <a:latin typeface="Eurostile"/>
              </a:rPr>
              <a:t>Thank You</a:t>
            </a: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 for your attention !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Comments ?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Questions ?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Suggestions ?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Solutions ?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- Approach CIMP for INFO exchange -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3224160" y="1268280"/>
            <a:ext cx="5400720" cy="403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9T18:51:40Z</dcterms:created>
  <dc:creator>Stephane Desprez</dc:creator>
  <dc:description/>
  <dc:language>en-US</dc:language>
  <cp:lastModifiedBy>Fustis</cp:lastModifiedBy>
  <cp:lastPrinted>2011-05-01T20:14:46Z</cp:lastPrinted>
  <dcterms:modified xsi:type="dcterms:W3CDTF">2014-05-08T10:53:51Z</dcterms:modified>
  <cp:revision>585</cp:revision>
  <dc:subject/>
  <dc:title>Présentation PowerPoint</dc:title>
</cp:coreProperties>
</file>