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907588" cy="6858000"/>
  <p:notesSz cx="99329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932400" cy="67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6271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125520" y="509400"/>
            <a:ext cx="3679560" cy="254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6271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024CE-839E-47ED-916B-182643EEFFA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562752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7525E-A657-47D3-B26E-1D3A2885420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3125880" y="509760"/>
            <a:ext cx="3679560" cy="254772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fdngfdng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562752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F8A83-C682-4001-95BA-BB0C16FB602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3125880" y="509760"/>
            <a:ext cx="3679560" cy="254772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proper disclosure of internal working documents &amp; discu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FE3F-EB5A-45FB-80D8-9A4E11387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2520" y="384048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14F3-37DB-40C8-8343-55478C16B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7528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6917-98BF-4DCC-9E40-3F7C79585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4160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1068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7252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4160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1068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5185-D71F-411C-94F4-3B3B84BFE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CA7D-50E5-4F2B-B642-B3F40FDFD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BF58-08A2-474E-9176-4336B4710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ADB8-CF29-4305-9247-0BCD06E0C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616B-05B0-4696-847B-A945F2220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66760" y="228240"/>
            <a:ext cx="948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94F4-1706-490F-A558-C6A54A3A3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5DFD-2C2F-49E5-836E-93693F4F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528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A207-05D8-4416-95B8-B520405A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FC92-6269-4EBB-AF74-0C9AB65C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948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799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320" y="6552720"/>
            <a:ext cx="20635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18591-DF1A-418A-8766-5DFF0D57C797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552720"/>
            <a:ext cx="20638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A5E8C-E463-4363-8B97-8A40B8BE0837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"/>
          <p:cNvSpPr/>
          <p:nvPr/>
        </p:nvSpPr>
        <p:spPr>
          <a:xfrm>
            <a:off x="152280" y="6553080"/>
            <a:ext cx="845820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3"/>
          <p:cNvSpPr/>
          <p:nvPr/>
        </p:nvSpPr>
        <p:spPr>
          <a:xfrm>
            <a:off x="9372600" y="6553080"/>
            <a:ext cx="38088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4" descr="logo_fai_02_cmyk copie"/>
          <p:cNvPicPr/>
          <p:nvPr/>
        </p:nvPicPr>
        <p:blipFill>
          <a:blip r:embed="rId3"/>
          <a:stretch/>
        </p:blipFill>
        <p:spPr>
          <a:xfrm>
            <a:off x="8763120" y="5865840"/>
            <a:ext cx="495360" cy="865080"/>
          </a:xfrm>
          <a:prstGeom prst="rect">
            <a:avLst/>
          </a:prstGeom>
          <a:ln w="0">
            <a:noFill/>
          </a:ln>
        </p:spPr>
      </p:pic>
      <p:sp>
        <p:nvSpPr>
          <p:cNvPr id="8" name="Espace réservé de la date 3"/>
          <p:cNvSpPr/>
          <p:nvPr/>
        </p:nvSpPr>
        <p:spPr>
          <a:xfrm>
            <a:off x="0" y="6629400"/>
            <a:ext cx="206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JK</a:t>
            </a:r>
            <a:fld id="{14C7C619-E23D-4DE8-AD7C-C7100EE0D36B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logo_fai_02_cmyk copie"/>
          <p:cNvPicPr/>
          <p:nvPr/>
        </p:nvPicPr>
        <p:blipFill>
          <a:blip r:embed="rId2"/>
          <a:stretch/>
        </p:blipFill>
        <p:spPr>
          <a:xfrm>
            <a:off x="992160" y="333360"/>
            <a:ext cx="1341360" cy="2158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2520" y="487800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IMP </a:t>
            </a:r>
            <a:br>
              <a:rPr sz="4400"/>
            </a:br>
            <a:r>
              <a:rPr b="0" lang="fr-FR" sz="2000" spc="-1" strike="noStrike">
                <a:solidFill>
                  <a:srgbClr val="000000"/>
                </a:solidFill>
                <a:latin typeface="Eurostile"/>
              </a:rPr>
              <a:t>COMMISSION INTERNATIONALE MÉDICO-PHYSIOLOGIQUE</a:t>
            </a:r>
            <a:r>
              <a:rPr b="0" lang="fr-FR" sz="4400" spc="-1" strike="noStrike">
                <a:solidFill>
                  <a:srgbClr val="000000"/>
                </a:solidFill>
                <a:latin typeface="Eurosti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54" name="Picture 4" descr="logo_cimp_01_cmyk (300-15)"/>
          <p:cNvPicPr/>
          <p:nvPr/>
        </p:nvPicPr>
        <p:blipFill>
          <a:blip r:embed="rId3"/>
          <a:stretch/>
        </p:blipFill>
        <p:spPr>
          <a:xfrm>
            <a:off x="3152880" y="2421000"/>
            <a:ext cx="313200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2520" y="259920"/>
            <a:ext cx="943956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 u="sng">
                <a:solidFill>
                  <a:srgbClr val="000000"/>
                </a:solidFill>
                <a:uFillTx/>
                <a:latin typeface="Eurostile"/>
              </a:rPr>
              <a:t>FAI   -   CIMP</a:t>
            </a:r>
            <a:endParaRPr b="0" lang="en-US" sz="6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Status 2014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-Flexibility in Oxygen Rules 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(EASA)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-EAS: “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Drivers Licence“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 Pilot Medica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-Current Issues to decide on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WADA request paper: </a:t>
            </a: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Eurostile"/>
              </a:rPr>
              <a:t>Physiological Stresses in Air-Sports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, various Disciplines</a:t>
            </a: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Juergen K Knueppel,  MD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President FAI CIMP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Espace réservé du numéro de diapositive 5"/>
          <p:cNvSpPr/>
          <p:nvPr/>
        </p:nvSpPr>
        <p:spPr>
          <a:xfrm>
            <a:off x="7772400" y="6553080"/>
            <a:ext cx="206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395D6-1BD7-4499-80B5-73BD440EC29B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9800" y="259920"/>
            <a:ext cx="955332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Eurostile"/>
              </a:rPr>
              <a:t>Practical recommendation</a:t>
            </a:r>
            <a:r>
              <a:rPr b="1" lang="en-US" sz="2000" spc="-1" strike="noStrike">
                <a:solidFill>
                  <a:srgbClr val="000000"/>
                </a:solidFill>
                <a:latin typeface="Eurostile"/>
              </a:rPr>
              <a:t> to Federations FAI Anti-Doping Work-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Eurostile"/>
              </a:rPr>
              <a:t> </a:t>
            </a:r>
            <a:r>
              <a:rPr b="1" lang="en-US" sz="2800" spc="-1" strike="noStrike">
                <a:solidFill>
                  <a:srgbClr val="e60c7e"/>
                </a:solidFill>
                <a:latin typeface="Eurostile"/>
              </a:rPr>
              <a:t>Where are we? – What to improve?</a:t>
            </a:r>
            <a:endParaRPr b="0" lang="en-US" sz="28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152280" y="1065240"/>
            <a:ext cx="975384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272880" y="1413000"/>
            <a:ext cx="9360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Eurostile"/>
                <a:ea typeface="MS Gothic"/>
              </a:rPr>
              <a:t>Federations requir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Anti Doping Manager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Federation Board Member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Contact to WADA, Sport Accord, NADO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Eurostile"/>
                <a:ea typeface="MS Gothic"/>
              </a:rPr>
              <a:t>(National Anti-Doping Organization)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&gt; </a:t>
            </a:r>
            <a:r>
              <a:rPr b="0" i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how rules &amp; violations get handled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Legal Advisor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Medical Advisor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Proactive Training, Ambassadors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Anti Doping-PR, Presentations 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&gt; </a:t>
            </a:r>
            <a:r>
              <a:rPr b="1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Competent Persons 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Immediate Contact to FAI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(when a “</a:t>
            </a: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Case”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is opene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2520" y="260280"/>
            <a:ext cx="9487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Eurostile"/>
              </a:rPr>
              <a:t>Flight Stresses in Sports-Aviation  </a:t>
            </a:r>
            <a:r>
              <a:rPr b="0" lang="en-GB" sz="1400" spc="-1" strike="noStrike">
                <a:solidFill>
                  <a:srgbClr val="000000"/>
                </a:solidFill>
                <a:latin typeface="Eurostile"/>
              </a:rPr>
              <a:t>(FAICIMP first draft opinion 052014)</a:t>
            </a:r>
            <a:endParaRPr b="0" lang="en-US" sz="1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9906120" cy="496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en-GB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 =min / 5= max     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ACRO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odeli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Ballon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A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lidng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araGl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icroL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arChu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eli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i="1" lang="de-DE" sz="1400" spc="-1" strike="noStrike" u="sng">
                <a:solidFill>
                  <a:srgbClr val="000000"/>
                </a:solidFill>
                <a:uFillTx/>
                <a:latin typeface="Eurostile"/>
              </a:rPr>
              <a:t>"Stresses"</a:t>
            </a:r>
            <a:r>
              <a:rPr b="0" i="1" lang="de-DE" sz="1000" spc="-1" strike="noStrike" u="sng">
                <a:solidFill>
                  <a:srgbClr val="000000"/>
                </a:solidFill>
                <a:uFillTx/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entalStrain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NutritionStres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ChronoBioStrain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OrientationalStr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recisionCoord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6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uscleForce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7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-Forces 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8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CardioStres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9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ExtremeTemp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0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VisualPerform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ypobaricCond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ypoxia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72520" y="691920"/>
            <a:ext cx="96332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Thank You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 for your attention !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Comment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Ques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Sugges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Solu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- Approach CIMP for INFO exchange -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224160" y="1268280"/>
            <a:ext cx="540072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8:51:40Z</dcterms:created>
  <dc:creator>Stephane Desprez</dc:creator>
  <dc:description/>
  <dc:language>en-US</dc:language>
  <cp:lastModifiedBy>Fustis</cp:lastModifiedBy>
  <cp:lastPrinted>2011-05-01T20:14:46Z</cp:lastPrinted>
  <dcterms:modified xsi:type="dcterms:W3CDTF">2014-05-08T10:53:51Z</dcterms:modified>
  <cp:revision>585</cp:revision>
  <dc:subject/>
  <dc:title>Présentation PowerPoint</dc:title>
</cp:coreProperties>
</file>