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C120-F662-4F3B-84BB-0FBDE3B8CF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8497-71B1-49D9-A6E0-6275B330A4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7B6F-4181-45EA-82AA-522BF14A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DBAC-0E01-4F8A-BD64-594562FF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8971-EF03-40CF-B033-ABA3000D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364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272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364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272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BDD5-9433-4BF4-B17D-515BFF40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65D-1124-4E95-9CFE-B0E44D8A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122D-1466-44D6-83A8-58F3DBFB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C001-C124-445B-B13A-D780D413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1462-8779-4275-949A-2D4C4A65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FF8E-AD1F-4FE5-A678-9A2AD901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3526-15AA-431B-8E6C-FD41BC4F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9087-DD15-4597-B50E-48A9E89B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47C-3F62-48E0-9E37-D7F104E1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39DA-C3EB-4881-BA90-02E3A0B7DB2B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6E81-065A-41E9-A4A9-891C7D8EE4A0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20" y="4508280"/>
            <a:ext cx="951696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br>
              <a:rPr sz="4400"/>
            </a:br>
            <a:br>
              <a:rPr sz="4400"/>
            </a:br>
            <a:r>
              <a:rPr b="0" lang="fr-FR" sz="3200" spc="-1" strike="noStrike">
                <a:solidFill>
                  <a:srgbClr val="000000"/>
                </a:solidFill>
                <a:latin typeface="Eurostile"/>
              </a:rPr>
              <a:t>Juergen K Knueppel MD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Eurostile"/>
              </a:rPr>
              <a:t>FAI-CIMP Issues  </a:t>
            </a:r>
            <a:r>
              <a:rPr b="0" lang="de-DE" sz="4000" spc="-1" strike="noStrike">
                <a:solidFill>
                  <a:srgbClr val="000000"/>
                </a:solidFill>
                <a:latin typeface="Eurostile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Eurostile"/>
              </a:rPr>
              <a:t>-commission internationale medico physiologique-</a:t>
            </a:r>
            <a:endParaRPr b="0" lang="en-US" sz="1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9800" y="1052280"/>
            <a:ext cx="94042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Flight Safety Data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Human Factors, Request for competent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Accident Investigation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Advise to Commissions,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ICAO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Proactive Flight Safty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 Initiativ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 TUE Pannel  -  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necessary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Eurostile"/>
              </a:rPr>
              <a:t>“Doping“ waivor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oblem:(“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older”) athletes taking already for year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quired medicine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Answer 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lated questions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 anytim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: Medical and Physiological expertis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300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EASA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Medical Licencing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Sporting Licence (FAA-SPL ?), </a:t>
            </a:r>
            <a:r>
              <a:rPr b="0" lang="de-DE" sz="1200" spc="-1" strike="noStrike">
                <a:solidFill>
                  <a:srgbClr val="000000"/>
                </a:solidFill>
                <a:latin typeface="Eurostile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Support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i.e. G-Forces, Oxygen, Emergency Plans, CISM, other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09:05:47Z</dcterms:modified>
  <cp:revision>484</cp:revision>
  <dc:subject/>
  <dc:title>Présentation PowerPoint</dc:title>
</cp:coreProperties>
</file>