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C14B-CF2B-4119-B922-32DA3F74BA4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8D06-D0B1-4372-829E-5408A7144CC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F891-6043-4845-8F23-CE69808F3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EE04-F75E-4622-9AD0-6326B135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FC22-BFCD-4F83-8351-2CEA30E11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60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1068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252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60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1068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8D49-37E7-43C8-8AF1-15E58D8A7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EF75-28AC-4607-BB50-882F7D83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AEEE-51FB-4CC4-A7B0-97D31AEA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85B8-05C8-466E-B268-94203055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76EB-BEC6-4700-8C1B-F0B2DA5B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E91F-FCA2-4927-A480-1304A8CB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191C-8067-429A-B2AD-23828CD4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282C-EAC2-4198-A4AE-7BA805C3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7919-D35A-4DA9-A300-C64715CC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BB50-1FB8-4BE8-80D2-9584832CAA81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9552-7CFD-4387-BF6F-F631162A9106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  <p:sp>
        <p:nvSpPr>
          <p:cNvPr id="8" name="Espace réservé de la date 3"/>
          <p:cNvSpPr/>
          <p:nvPr/>
        </p:nvSpPr>
        <p:spPr>
          <a:xfrm>
            <a:off x="0" y="6629400"/>
            <a:ext cx="206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K</a:t>
            </a:r>
            <a:fld id="{4F34018A-2C8F-4139-A1D4-AA3602056C3A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2520" y="487800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4" name="Picture 4" descr="logo_cimp_01_cmyk (300-15)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3956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 u="sng">
                <a:solidFill>
                  <a:srgbClr val="000000"/>
                </a:solidFill>
                <a:uFillTx/>
                <a:latin typeface="Eurostile"/>
              </a:rPr>
              <a:t>FAI   -   CIMP</a:t>
            </a:r>
            <a:endParaRPr b="0" lang="en-US" sz="6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2421000"/>
            <a:ext cx="9372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Eurostile"/>
              </a:rPr>
              <a:t>Physiological Stresses in Air-Sports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, various Discipline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First Draft Opinion 05/2014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FAI CIMP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520" y="260280"/>
            <a:ext cx="9487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urostile"/>
              </a:rPr>
              <a:t>Flight Stresses in Sports-Aviation  </a:t>
            </a:r>
            <a:r>
              <a:rPr b="0" lang="en-GB" sz="1400" spc="-1" strike="noStrike">
                <a:solidFill>
                  <a:srgbClr val="000000"/>
                </a:solidFill>
                <a:latin typeface="Eurostile"/>
              </a:rPr>
              <a:t>(FAICIMP first draft opinion 052014)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990612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 =min / 5= max     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ACRO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odeli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Ballon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lidng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aG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icro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Chu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eli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Eurostile"/>
              </a:rPr>
              <a:t>"Stresses"</a:t>
            </a:r>
            <a:r>
              <a:rPr b="0" i="1" lang="de-DE" sz="1000" spc="-1" strike="noStrike" u="sng">
                <a:solidFill>
                  <a:srgbClr val="000000"/>
                </a:solidFill>
                <a:uFillTx/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ental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Nutrition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hronoBio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OrientationalStr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recisionCoor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uscleForce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-Forces 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8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ardio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9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ExtremeTemp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0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VisualPerform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baricCon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xi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72520" y="691920"/>
            <a:ext cx="96332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Thank You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 for your attention !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omment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ugg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- Approach CIMP for INFO exchange -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24160" y="1268280"/>
            <a:ext cx="5400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11:15:45Z</dcterms:modified>
  <cp:revision>586</cp:revision>
  <dc:subject/>
  <dc:title>Présentation PowerPoint</dc:title>
</cp:coreProperties>
</file>