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4.jpeg" ContentType="image/jpeg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media/image10.jpeg" ContentType="image/jpeg"/>
  <Override PartName="/ppt/media/image8.jpeg" ContentType="image/jpe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664325" cy="9802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63600" cy="980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4960" y="-3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596FB-AA7C-4446-A33E-864E29BCBBA1}" type="datetime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80920" y="734760"/>
            <a:ext cx="4902480" cy="367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88480" y="4656240"/>
            <a:ext cx="488484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117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4960" y="93117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798ED-94E9-4B0B-996B-E677F084BFB4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3774960" y="93117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D4217-91CE-4C75-92E9-5D3498F48DFD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93117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-360" y="-3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774960" y="-3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067F6-9152-4370-9298-B9F7D597F0D5}" type="datetime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880920" y="735120"/>
            <a:ext cx="4902480" cy="367668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66720" y="4656240"/>
            <a:ext cx="532944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1B47-96A5-44E8-9671-E1CDF03E0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1137-9866-4FF2-87DF-28C56E2A8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4032-786E-4912-A93C-9606392AA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E810-4EFB-48DB-9A82-B9A287B83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38D6-0706-442B-AFDC-9AFEEE778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12D1-342E-4EF1-B262-6529850CC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E8D4-AA9E-44EF-ACE0-75A553A71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FE4A-F558-4635-9229-CD8C2B594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26A5-4D82-43A5-8AB2-0C62B3824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8E7C-E281-45A6-A669-73CE50069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219B-9E5C-4A00-90FF-D06CE1EBF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CC8E-C05D-44D6-BA0C-837C7FE07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3A282-A470-4378-9492-D27C001C3496}" type="datetime">
              <a:rPr b="1" lang="en-GB" sz="12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09320" y="6553080"/>
            <a:ext cx="5334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300B0-F0DB-4AF4-A847-C6AF9E1ECF3A}" type="slidenum"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2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3960" y="336528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Extracted from</a:t>
            </a:r>
            <a:br>
              <a:rPr sz="3200"/>
            </a:b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200"/>
            </a:b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FAI  Amateur-built and Experimental Aircraft Commission  -  CIACA</a:t>
            </a:r>
            <a:br>
              <a:rPr sz="3200"/>
            </a:b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4800600"/>
            <a:ext cx="7848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00"/>
                </a:solidFill>
                <a:latin typeface="Arial"/>
              </a:rPr>
              <a:t>31st Plenary Me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00"/>
                </a:solidFill>
                <a:latin typeface="Arial"/>
              </a:rPr>
              <a:t>Paris ,  Aero Club de Fr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00"/>
                </a:solidFill>
                <a:latin typeface="Arial"/>
              </a:rPr>
              <a:t>March 31st, 20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108000" y="189000"/>
          <a:ext cx="8926560" cy="5976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189000"/>
                    <a:ext cx="8926560" cy="59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822D-3736-4F15-AAE9-C942F4480B0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6DCAF4-A505-4D59-BF0B-7E126080A2F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851280" y="1700280"/>
            <a:ext cx="2189160" cy="25207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132000" y="4365720"/>
            <a:ext cx="4162680" cy="21636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227640" y="2567160"/>
            <a:ext cx="2541600" cy="17222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79280" y="189000"/>
            <a:ext cx="792180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Times New Roman"/>
              </a:rPr>
              <a:t>FAI Gold Air Medal to Jon JOHANSON (Australi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three times round the world (1995,1996,20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both po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08000" y="3092400"/>
            <a:ext cx="392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00"/>
                </a:solidFill>
                <a:latin typeface="Times New Roman"/>
              </a:rPr>
              <a:t>www.vansaircraft.com/public/jj-persn.h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8476-0DBF-460B-82A4-94FF17269815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8DCF0A-3C90-4203-9924-0C3A4C46CB5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39640" y="6669000"/>
            <a:ext cx="7561440" cy="0"/>
          </a:xfrm>
          <a:prstGeom prst="line">
            <a:avLst/>
          </a:prstGeom>
          <a:ln w="9360">
            <a:solidFill>
              <a:srgbClr val="a28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675640" y="6669000"/>
            <a:ext cx="217440" cy="0"/>
          </a:xfrm>
          <a:prstGeom prst="line">
            <a:avLst/>
          </a:prstGeom>
          <a:ln w="9360">
            <a:solidFill>
              <a:srgbClr val="a28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4000" y="1701720"/>
            <a:ext cx="849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8101080" y="6165720"/>
            <a:ext cx="596880" cy="6494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24000" y="0"/>
            <a:ext cx="7848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Times New Roman"/>
              </a:rPr>
              <a:t>« The High Flyers Night 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49360"/>
            <a:ext cx="835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ffffff"/>
                </a:solidFill>
                <a:latin typeface="Arial"/>
              </a:rPr>
              <a:t>Paris, Palais du Luxembourg, 14 October 2005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464000" y="20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709640" y="221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927840" y="193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777000" y="10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43_High Flyers_m" descr=""/>
          <p:cNvPicPr/>
          <p:nvPr/>
        </p:nvPicPr>
        <p:blipFill>
          <a:blip r:embed="rId2"/>
          <a:stretch/>
        </p:blipFill>
        <p:spPr>
          <a:xfrm>
            <a:off x="2195640" y="884160"/>
            <a:ext cx="5184720" cy="3456000"/>
          </a:xfrm>
          <a:prstGeom prst="rect">
            <a:avLst/>
          </a:prstGeom>
          <a:ln w="0">
            <a:noFill/>
          </a:ln>
        </p:spPr>
      </p:pic>
      <p:grpSp>
        <p:nvGrpSpPr>
          <p:cNvPr id="68" name=""/>
          <p:cNvGrpSpPr/>
          <p:nvPr/>
        </p:nvGrpSpPr>
        <p:grpSpPr>
          <a:xfrm>
            <a:off x="250920" y="4581360"/>
            <a:ext cx="2128680" cy="1634400"/>
            <a:chOff x="250920" y="4581360"/>
            <a:chExt cx="2128680" cy="1634400"/>
          </a:xfrm>
        </p:grpSpPr>
        <p:pic>
          <p:nvPicPr>
            <p:cNvPr id="69" name="42_High Flyers_m" descr=""/>
            <p:cNvPicPr/>
            <p:nvPr/>
          </p:nvPicPr>
          <p:blipFill>
            <a:blip r:embed="rId3"/>
            <a:stretch/>
          </p:blipFill>
          <p:spPr>
            <a:xfrm>
              <a:off x="322200" y="4581360"/>
              <a:ext cx="20574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250920" y="5878440"/>
              <a:ext cx="108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1200" spc="-1" strike="noStrike">
                  <a:solidFill>
                    <a:srgbClr val="ffffff"/>
                  </a:solidFill>
                  <a:latin typeface="Arial"/>
                </a:rPr>
                <a:t>Buzz Aldrin</a:t>
              </a:r>
              <a:r>
                <a:rPr b="0" lang="fr-CH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3598920" y="4437000"/>
            <a:ext cx="1944720" cy="2210400"/>
            <a:chOff x="3598920" y="4437000"/>
            <a:chExt cx="1944720" cy="2210400"/>
          </a:xfrm>
        </p:grpSpPr>
        <p:pic>
          <p:nvPicPr>
            <p:cNvPr id="72" name="40_Centenary Medal_m" descr=""/>
            <p:cNvPicPr/>
            <p:nvPr/>
          </p:nvPicPr>
          <p:blipFill>
            <a:blip r:embed="rId4"/>
            <a:stretch/>
          </p:blipFill>
          <p:spPr>
            <a:xfrm>
              <a:off x="3888000" y="4437000"/>
              <a:ext cx="1314360" cy="197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3598920" y="6310080"/>
              <a:ext cx="1944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1200" spc="-1" strike="noStrike">
                  <a:solidFill>
                    <a:srgbClr val="ffffff"/>
                  </a:solidFill>
                  <a:latin typeface="Arial"/>
                </a:rPr>
                <a:t>FAI Centenary Medal</a:t>
              </a:r>
              <a:r>
                <a:rPr b="0" lang="fr-CH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443640" y="4581360"/>
            <a:ext cx="2449440" cy="1634400"/>
            <a:chOff x="6443640" y="4581360"/>
            <a:chExt cx="2449440" cy="1634400"/>
          </a:xfrm>
        </p:grpSpPr>
        <p:pic>
          <p:nvPicPr>
            <p:cNvPr id="75" name="41_High Flyers_m" descr=""/>
            <p:cNvPicPr/>
            <p:nvPr/>
          </p:nvPicPr>
          <p:blipFill>
            <a:blip r:embed="rId5"/>
            <a:stretch/>
          </p:blipFill>
          <p:spPr>
            <a:xfrm>
              <a:off x="6732720" y="4581360"/>
              <a:ext cx="20574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6443640" y="5878440"/>
              <a:ext cx="2449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1200" spc="-1" strike="noStrike">
                  <a:solidFill>
                    <a:srgbClr val="ffffff"/>
                  </a:solidFill>
                  <a:latin typeface="Arial"/>
                </a:rPr>
                <a:t>Steve Fossett &amp; Bertrand Piccard</a:t>
              </a:r>
              <a:r>
                <a:rPr b="0" lang="fr-CH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108000" y="6467400"/>
            <a:ext cx="25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685800" y="609480"/>
          <a:ext cx="7772400" cy="5505480"/>
        </p:xfrm>
        <a:graphic>
          <a:graphicData uri="http://schemas.openxmlformats.org/drawingml/2006/table">
            <a:tbl>
              <a:tblPr/>
              <a:tblGrid>
                <a:gridCol w="1492200"/>
                <a:gridCol w="1841400"/>
                <a:gridCol w="3586320"/>
                <a:gridCol w="852480"/>
              </a:tblGrid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Discipli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No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erformanc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ay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érosta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Bertrand Piccar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r>
                        <a:rPr b="0" lang="fr-FR" sz="900" spc="-1" strike="noStrike" baseline="30000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er</a:t>
                      </a: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 Tour du monde en ballon+ records altitude et durée en 19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C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erostation (gaz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JF &amp; V Ley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ainqueurs de4 coupes Gordon Bennet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stronomi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udoin Dollfu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viation 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Steve Fosset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Tour du monde en ballon  et en avion en solo et sans escal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US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Espac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alery Poliako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 spatial prolongé 437 jours 18 heur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R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Buzz Aldr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1er équipage sur la lu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US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Giravia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Jean Boule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Record du monde d'altitude en hélic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gral Valérie André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Nombreuses missions de sauvetag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arachutis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Cheryl Stearn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multiples records du monde en chute lib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US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arachutis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BJ Wor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créateur du saut en "free style" et "canopy piloting", organisateur des + grands evenements de parachutisme.  Cascades de James Bon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US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 à Voil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Klaus Ohlman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lusieurs records du monde, dont celui 3000 k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 Lib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Manfred Ruhm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Champion du Monde en 1999 et d’Europe en 1998. + CdM Speedgliding 2003 + record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u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tige en planeu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Jerzy Makul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6 X champion du monde et 2 X d'Europe en voltige planeu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o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tige av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Catherine Maunou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2 fois CdM Voltig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tige av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Svetlana Kapanin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5 fois CdM Voltig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R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UL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Mike Blyth + Olivier Auber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lusieurs records du monde et voyages en pendulai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SA + C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MT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Luc Trulleman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routeur des courses en ball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" name=""/>
          <p:cNvSpPr/>
          <p:nvPr/>
        </p:nvSpPr>
        <p:spPr>
          <a:xfrm>
            <a:off x="1835280" y="836640"/>
            <a:ext cx="662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124000" y="1427040"/>
            <a:ext cx="633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09960" y="2535120"/>
            <a:ext cx="633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125800" y="3011400"/>
            <a:ext cx="633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22560" y="5070600"/>
            <a:ext cx="633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1125360"/>
            <a:ext cx="777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EA50-B082-47EB-8C1A-A2FC6FBA5AD9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B153AC-D1CB-45DF-A298-7156A1C2B88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66560" y="403560"/>
            <a:ext cx="8209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Times New Roman"/>
              </a:rPr>
              <a:t>Lausanne 27/28.August. The EAS was present there to inform about the amateur built section of aviation, the public interest was very high and a lot of interest was generated, we had inside an aircraft under construction (Kitfox) and a Bruegger Colibri, outside in the static display was a Slepcev Storck, a Cherry and a RV-6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658880" y="2276640"/>
            <a:ext cx="5826240" cy="3735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FBAE-DAD9-4263-8043-134D1F151947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8E67A0-0458-4B5C-B089-CD96139EB53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ffff00"/>
                </a:solidFill>
                <a:latin typeface="Times New Roman"/>
              </a:rPr>
              <a:t>MERCI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00"/>
                </a:solidFill>
                <a:latin typeface="Times New Roman"/>
              </a:rPr>
              <a:t>FAI thanks the Aero Club de France for helping us to celebrate the Centenary in style, and for hosting the CIACA me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EDE7-A6B8-44A9-A2BC-BF17109C3DA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4DCBF7-E4D8-47D0-8B49-63D1D582E35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New economic racing class p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roject </a:t>
            </a:r>
            <a:br>
              <a:rPr sz="2400"/>
            </a:b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(part of the Bleu Citron progr.)</a:t>
            </a:r>
            <a:br>
              <a:rPr sz="2400"/>
            </a:b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 Presented by Mr. Frédéric Hubschwerlen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34800" y="1197000"/>
            <a:ext cx="4237200" cy="25588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4714920" y="1197000"/>
            <a:ext cx="4238640" cy="25606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395280" y="3905280"/>
            <a:ext cx="4176720" cy="25225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4740120" y="3906720"/>
            <a:ext cx="4176720" cy="2522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E1CA-B819-4E75-B029-E719F7F08B48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C2FD97-F285-4CB4-956D-B7AB1BE3679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IACA Web Si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First experience with the CMS  (From Werner Schneider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-we have finally access to add, edit content on the webpage, we can al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add more editors by ourself,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this is a real progres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-the first steps were promising (I was able to add some content) 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Thierry does this as a course I have not yet all information I wou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like to have but thats just a matter of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-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the ill fated non working database is finally gon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The CMS is very powerful and does help to align content in a way t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the web has a corporate design, this is a very good move. We will s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how this develops and I hope the approach to have from each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each year at least one little story to present will make the CIACA We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more aliv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06EF-F448-48BD-B763-0D5EA49C605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2521A8-DAF2-4E36-A858-5E74AD8FC2E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8T16:15:20Z</dcterms:created>
  <dc:creator>UAA15B0</dc:creator>
  <dc:description/>
  <dc:language>en-US</dc:language>
  <cp:lastModifiedBy> </cp:lastModifiedBy>
  <dcterms:modified xsi:type="dcterms:W3CDTF">2006-08-22T13:59:23Z</dcterms:modified>
  <cp:revision>100</cp:revision>
  <dc:subject/>
  <dc:title>Presentazione di PowerPoint</dc:title>
</cp:coreProperties>
</file>